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_rels/notesSlide65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.xml.rels" ContentType="application/vnd.openxmlformats-package.relationships+xml"/>
  <Override PartName="/ppt/notesSlides/notesSlide65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1.pct" ContentType="image/x-pict"/>
  <Override PartName="/ppt/media/image9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10.pct" ContentType="image/x-pict"/>
  <Override PartName="/ppt/media/image13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good, not bad, to use materials usually used for a different mean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/7 of  the area is red but 6/10 of the blocks are 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the way, kids will tell me it took 10 blocks to cover the whole area, so it’s really the same problem in a different gui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p midway   Good news is they fixed some up on their 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id you use a bigger numerator and denominator than 1 and 2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/3  vs  10/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going to tell you, but it looks, again, like more than one fraction can describe the same sit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better language--- 4/5 of the counters are in the bag;   There are 5/4 bags of coun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1/1 awesome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ACAB1-A99E-416D-BB3B-ED2E1ED6FC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35BCD-8A0E-40DE-955E-85B43A90DE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EDDA7-80CE-414B-9EA4-2FEC86B9A5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AEFF4-A00C-4424-823E-4800037C21E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6CB32-03F4-4D5B-9387-73A230C48D6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6ACE9-1E8F-4C80-A3D9-55508C7A32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3911A-463F-48DF-AE4A-00A5F0CAFA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89077-DFF1-4793-91F6-9B3CB40DFF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77955-0C66-40BB-8C78-85B95DF785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D72E3-CC9F-4888-AC2A-E1E1D123AC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38B24-5267-4263-85EF-829C6E7DC0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FF8C2-1146-455E-9D3B-12EEDAA977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FA437-9651-4DF2-801B-26981E76785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" descr=""/>
          <p:cNvPicPr/>
          <p:nvPr/>
        </p:nvPicPr>
        <p:blipFill>
          <a:blip r:embed="rId3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ct"/><Relationship Id="rId5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46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B2108-7F1D-459E-B032-2186B70DA78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1600200"/>
            <a:ext cx="807696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490d8"/>
                </a:solidFill>
                <a:latin typeface="Tahoma"/>
                <a:ea typeface="Tahoma"/>
              </a:rPr>
              <a:t>Math CAMPPP 2012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914040" y="3352320"/>
            <a:ext cx="762012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Plenary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Why students struggle with f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"/>
          <p:cNvPicPr/>
          <p:nvPr/>
        </p:nvPicPr>
        <p:blipFill>
          <a:blip r:embed="rId2"/>
          <a:stretch/>
        </p:blipFill>
        <p:spPr>
          <a:xfrm>
            <a:off x="152280" y="76320"/>
            <a:ext cx="2590920" cy="152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Unfortunately…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associate the topic of fractions with difficulty, complexity, or even wor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why do students (and lots of grown-ups) strugg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60D60-877F-4328-BE05-C3C30F7A6BC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To know why students struggl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need to think about what we really want students to kn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some ways, the curriculum tells us more about what we want students to 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have to figure out what we want them to KN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be part of the struggle is not focu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KN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756E3-ECAB-479A-85D1-5BAC391D6FB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On the wiki..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will find a document that outlines specifics for Grades 1 – 9 of what the curriculum asks students to DO and what that means they need to KN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will do some examples here toge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6B9D8-6F47-4E83-8FDC-3A846BAACBC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Grade 2  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457200" y="1295280"/>
          <a:ext cx="8229600" cy="41198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661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n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661a6"/>
                    </a:solidFill>
                  </a:tcPr>
                </a:tc>
              </a:tr>
              <a:tr h="375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termine the relationship between number of fraction parts and sizes (investigat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roup fractional parts in wholes (concret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are using concrete materials (no formal notation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en you divide the same thing into more parts, the parts are smaller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 you can divide a whole into many equal parts, you could put the parts together again to make a whol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 you want to know which part is more, sometimes you can just look; other times, you can overlap the parts to tell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8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A4554-E21A-40C5-ACB3-36825F57C17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More parts means smaller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might as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were two big cak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were identic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06C17-73D0-4A53-8F9D-A17143F4F90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Group 8"/>
          <p:cNvGrpSpPr/>
          <p:nvPr/>
        </p:nvGrpSpPr>
        <p:grpSpPr>
          <a:xfrm>
            <a:off x="5791320" y="1447920"/>
            <a:ext cx="2971800" cy="1752480"/>
            <a:chOff x="5791320" y="1447920"/>
            <a:chExt cx="2971800" cy="1752480"/>
          </a:xfrm>
        </p:grpSpPr>
        <p:sp>
          <p:nvSpPr>
            <p:cNvPr id="93" name="Rectangle 4"/>
            <p:cNvSpPr/>
            <p:nvPr/>
          </p:nvSpPr>
          <p:spPr>
            <a:xfrm>
              <a:off x="5791320" y="1447920"/>
              <a:ext cx="2971800" cy="838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5"/>
            <p:cNvSpPr/>
            <p:nvPr/>
          </p:nvSpPr>
          <p:spPr>
            <a:xfrm>
              <a:off x="5791320" y="2362320"/>
              <a:ext cx="2971800" cy="838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TextBox 6"/>
            <p:cNvSpPr/>
            <p:nvPr/>
          </p:nvSpPr>
          <p:spPr>
            <a:xfrm>
              <a:off x="5867280" y="1523880"/>
              <a:ext cx="281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Handwriting - Dakota"/>
                  <a:ea typeface="Handwriting - Dakota"/>
                </a:rPr>
                <a:t>Happy Birthday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Box 7"/>
            <p:cNvSpPr/>
            <p:nvPr/>
          </p:nvSpPr>
          <p:spPr>
            <a:xfrm>
              <a:off x="5867280" y="2590920"/>
              <a:ext cx="281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Handwriting - Dakota"/>
                  <a:ea typeface="Handwriting - Dakota"/>
                </a:rPr>
                <a:t>Happy Birthday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More parts means smaller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ut the first one into a LOT of equal sl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ut the second one into NOT TOO MANY equal sl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15A97-7AB2-4830-89FD-AFFA6154FA7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Group 8"/>
          <p:cNvGrpSpPr/>
          <p:nvPr/>
        </p:nvGrpSpPr>
        <p:grpSpPr>
          <a:xfrm>
            <a:off x="5257800" y="3352680"/>
            <a:ext cx="2971800" cy="1752840"/>
            <a:chOff x="5257800" y="3352680"/>
            <a:chExt cx="2971800" cy="1752840"/>
          </a:xfrm>
        </p:grpSpPr>
        <p:sp>
          <p:nvSpPr>
            <p:cNvPr id="101" name="Rectangle 4"/>
            <p:cNvSpPr/>
            <p:nvPr/>
          </p:nvSpPr>
          <p:spPr>
            <a:xfrm>
              <a:off x="5257800" y="3352680"/>
              <a:ext cx="2971800" cy="838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5"/>
            <p:cNvSpPr/>
            <p:nvPr/>
          </p:nvSpPr>
          <p:spPr>
            <a:xfrm>
              <a:off x="5257800" y="4267080"/>
              <a:ext cx="2971800" cy="838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Box 6"/>
            <p:cNvSpPr/>
            <p:nvPr/>
          </p:nvSpPr>
          <p:spPr>
            <a:xfrm>
              <a:off x="5333760" y="3428640"/>
              <a:ext cx="281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Handwriting - Dakota"/>
                  <a:ea typeface="Handwriting - Dakota"/>
                </a:rPr>
                <a:t>Happy Birthday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Box 7"/>
            <p:cNvSpPr/>
            <p:nvPr/>
          </p:nvSpPr>
          <p:spPr>
            <a:xfrm>
              <a:off x="5333760" y="4496040"/>
              <a:ext cx="281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Handwriting - Dakota"/>
                  <a:ea typeface="Handwriting - Dakota"/>
                </a:rPr>
                <a:t>Happy Birthday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So…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used fractions to describe 3 slices of each cake, what might the fractions b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amount of cake is small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8C62D-1386-4A40-87A0-1795700E5A9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omparing Fraction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 this comparison situ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0C3C2-65F5-4E2F-BACC-BD626DE08BA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990720" y="3124080"/>
          <a:ext cx="6095880" cy="371520"/>
        </p:xfrm>
        <a:graphic>
          <a:graphicData uri="http://schemas.openxmlformats.org/drawingml/2006/table">
            <a:tbl>
              <a:tblPr/>
              <a:tblGrid>
                <a:gridCol w="1218960"/>
                <a:gridCol w="1219320"/>
                <a:gridCol w="1219320"/>
                <a:gridCol w="1218960"/>
                <a:gridCol w="12193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990720" y="3905280"/>
          <a:ext cx="6095880" cy="371520"/>
        </p:xfrm>
        <a:graphic>
          <a:graphicData uri="http://schemas.openxmlformats.org/drawingml/2006/table">
            <a:tbl>
              <a:tblPr/>
              <a:tblGrid>
                <a:gridCol w="1523880"/>
                <a:gridCol w="1523880"/>
                <a:gridCol w="1524240"/>
                <a:gridCol w="15238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3" name="TextBox 10"/>
          <p:cNvSpPr/>
          <p:nvPr/>
        </p:nvSpPr>
        <p:spPr>
          <a:xfrm>
            <a:off x="990720" y="236232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tuation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omparing Fraction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ast this comparison situ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66C98-69C9-45B3-918E-9D9E98F2A5F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203040" y="3114720"/>
          <a:ext cx="6096240" cy="371520"/>
        </p:xfrm>
        <a:graphic>
          <a:graphicData uri="http://schemas.openxmlformats.org/drawingml/2006/table">
            <a:tbl>
              <a:tblPr/>
              <a:tblGrid>
                <a:gridCol w="1219320"/>
                <a:gridCol w="1219320"/>
                <a:gridCol w="1218960"/>
                <a:gridCol w="1219320"/>
                <a:gridCol w="12193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2743200" y="4191120"/>
          <a:ext cx="6095880" cy="37152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  <a:gridCol w="15238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" name="TextBox 10"/>
          <p:cNvSpPr/>
          <p:nvPr/>
        </p:nvSpPr>
        <p:spPr>
          <a:xfrm>
            <a:off x="990720" y="236232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tuation #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Grade 4  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457200" y="1295280"/>
          <a:ext cx="8229600" cy="43023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661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n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661a6"/>
                    </a:solidFill>
                  </a:tcPr>
                </a:tc>
              </a:tr>
              <a:tr h="393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resent fractions using concrete materials, words, and standard fractional notation, meaning of numerator and denominat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numerator and denominator tell different things about the fraction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need to know what the whole is to interpret or compare fraction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same object(s) can represent different fractions, depending on the whol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re are many ways to represent any fraction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12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5676E-E39A-4F05-A82E-C881CBE976F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Let’s start thinking about the complexity of fraction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a sentence that includes these words and number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mproper, fraction, simple, challenging,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A263C-4E17-4296-B07B-A9D43DE140E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589C7-9B94-405C-9668-8CD115AB8C1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Screen shot 2012-07-17 at 2.52.06 PM.png"/>
          <p:cNvPicPr/>
          <p:nvPr/>
        </p:nvPicPr>
        <p:blipFill>
          <a:blip r:embed="rId2"/>
          <a:stretch/>
        </p:blipFill>
        <p:spPr>
          <a:xfrm>
            <a:off x="6095880" y="4419720"/>
            <a:ext cx="1955880" cy="97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Grade 4  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457200" y="1295280"/>
          <a:ext cx="8229600" cy="45770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661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n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661a6"/>
                    </a:solidFill>
                  </a:tcPr>
                </a:tc>
              </a:tr>
              <a:tr h="420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are and order fractions considering size and number of par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monstrate and explain equivalent fractions, using concret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re is always more than one strategy for comparing fractions, but for particular fractions, one might be easier to use than another. Many of the strategies involve renaming fraction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ery fraction has more than one name. If you are using the same whole, you can tell if they are the same by overlapping the two representation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12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C747B-067A-4681-9623-CE607B8120E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Grade 4  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57200" y="1295280"/>
          <a:ext cx="8229600" cy="23828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661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n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661a6"/>
                    </a:solidFill>
                  </a:tcPr>
                </a:tc>
              </a:tr>
              <a:tr h="201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nt forward by halves, thirds, fourths and tenths beyond o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 might be helpful to think of a fraction like a/b as a sets of 1/b. You can then count by 1/b s to get a sense of the fraction’s siz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12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786D0-D178-4FBD-8306-8013DC977BB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Which is more?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w pictures where ½ of something is less than ¼ of something el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would you still write ½ &gt; ¼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46DB7-EDD1-4122-9232-EDB69529705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In a higher gra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like comparing x/2 to y/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s not possible to know which is greater without knowing the relationship between x and 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B3AB7-110F-4965-959F-0C905CD87FF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Same object- different fraction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that this triangle could be 1/2 or could be 1/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1CFBC-D06D-4AC8-93EA-C28B4BCE6B4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Isosceles Triangle 4"/>
          <p:cNvSpPr/>
          <p:nvPr/>
        </p:nvSpPr>
        <p:spPr>
          <a:xfrm>
            <a:off x="3429000" y="2819520"/>
            <a:ext cx="914400" cy="838080"/>
          </a:xfrm>
          <a:prstGeom prst="triangle">
            <a:avLst>
              <a:gd name="adj" fmla="val 50000"/>
            </a:avLst>
          </a:prstGeom>
          <a:solidFill>
            <a:srgbClr val="008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Same object- different fraction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26E5E-44B3-48D8-9AF5-B98B3ADCEE4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Isosceles Triangle 4"/>
          <p:cNvSpPr/>
          <p:nvPr/>
        </p:nvSpPr>
        <p:spPr>
          <a:xfrm>
            <a:off x="1523880" y="2209680"/>
            <a:ext cx="914400" cy="838440"/>
          </a:xfrm>
          <a:prstGeom prst="triangle">
            <a:avLst>
              <a:gd name="adj" fmla="val 50000"/>
            </a:avLst>
          </a:prstGeom>
          <a:solidFill>
            <a:srgbClr val="008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Isosceles Triangle 5"/>
          <p:cNvSpPr/>
          <p:nvPr/>
        </p:nvSpPr>
        <p:spPr>
          <a:xfrm rot="10800000">
            <a:off x="1981080" y="2209320"/>
            <a:ext cx="914400" cy="838440"/>
          </a:xfrm>
          <a:prstGeom prst="triangle">
            <a:avLst>
              <a:gd name="adj" fmla="val 50000"/>
            </a:avLst>
          </a:prstGeom>
          <a:solidFill>
            <a:srgbClr val="008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Isosceles Triangle 6"/>
          <p:cNvSpPr/>
          <p:nvPr/>
        </p:nvSpPr>
        <p:spPr>
          <a:xfrm>
            <a:off x="4800600" y="2057400"/>
            <a:ext cx="914400" cy="838080"/>
          </a:xfrm>
          <a:prstGeom prst="triangle">
            <a:avLst>
              <a:gd name="adj" fmla="val 50000"/>
            </a:avLst>
          </a:prstGeom>
          <a:solidFill>
            <a:srgbClr val="008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Isosceles Triangle 7"/>
          <p:cNvSpPr/>
          <p:nvPr/>
        </p:nvSpPr>
        <p:spPr>
          <a:xfrm flipV="1">
            <a:off x="4800600" y="2894760"/>
            <a:ext cx="914400" cy="838440"/>
          </a:xfrm>
          <a:prstGeom prst="triangle">
            <a:avLst>
              <a:gd name="adj" fmla="val 50000"/>
            </a:avLst>
          </a:prstGeom>
          <a:solidFill>
            <a:srgbClr val="008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Isosceles Triangle 8"/>
          <p:cNvSpPr/>
          <p:nvPr/>
        </p:nvSpPr>
        <p:spPr>
          <a:xfrm>
            <a:off x="5257800" y="2895480"/>
            <a:ext cx="914400" cy="838440"/>
          </a:xfrm>
          <a:prstGeom prst="triangle">
            <a:avLst>
              <a:gd name="adj" fmla="val 50000"/>
            </a:avLst>
          </a:prstGeom>
          <a:solidFill>
            <a:srgbClr val="008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9"/>
          <p:cNvSpPr/>
          <p:nvPr/>
        </p:nvSpPr>
        <p:spPr>
          <a:xfrm>
            <a:off x="1905120" y="42670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/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10"/>
          <p:cNvSpPr/>
          <p:nvPr/>
        </p:nvSpPr>
        <p:spPr>
          <a:xfrm>
            <a:off x="5257800" y="43434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/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Or it could even be 2/5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22C5D-E5F4-48AD-873D-8FC2F652E49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Isosceles Triangle 4"/>
          <p:cNvSpPr/>
          <p:nvPr/>
        </p:nvSpPr>
        <p:spPr>
          <a:xfrm>
            <a:off x="1523880" y="2209680"/>
            <a:ext cx="914400" cy="838440"/>
          </a:xfrm>
          <a:prstGeom prst="triangle">
            <a:avLst>
              <a:gd name="adj" fmla="val 50000"/>
            </a:avLst>
          </a:prstGeom>
          <a:solidFill>
            <a:srgbClr val="008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Isosceles Triangle 5"/>
          <p:cNvSpPr/>
          <p:nvPr/>
        </p:nvSpPr>
        <p:spPr>
          <a:xfrm rot="10800000">
            <a:off x="1981080" y="2209320"/>
            <a:ext cx="914400" cy="838440"/>
          </a:xfrm>
          <a:prstGeom prst="triangle">
            <a:avLst>
              <a:gd name="adj" fmla="val 50000"/>
            </a:avLst>
          </a:prstGeom>
          <a:solidFill>
            <a:srgbClr val="008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reeform 11"/>
          <p:cNvSpPr/>
          <p:nvPr/>
        </p:nvSpPr>
        <p:spPr>
          <a:xfrm>
            <a:off x="2438280" y="2209680"/>
            <a:ext cx="454320" cy="83844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ounting by fraction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umber ? is more than 2. How big might your hop be? Where would 1 and 2 be? Expl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74F0C-D521-4E48-8E28-F7645C8943F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Group 14"/>
          <p:cNvGrpSpPr/>
          <p:nvPr/>
        </p:nvGrpSpPr>
        <p:grpSpPr>
          <a:xfrm>
            <a:off x="1828800" y="3657600"/>
            <a:ext cx="5486400" cy="1069560"/>
            <a:chOff x="1828800" y="3657600"/>
            <a:chExt cx="5486400" cy="1069560"/>
          </a:xfrm>
        </p:grpSpPr>
        <p:cxnSp>
          <p:nvCxnSpPr>
            <p:cNvPr id="159" name="Straight Arrow Connector 5"/>
            <p:cNvCxnSpPr/>
            <p:nvPr/>
          </p:nvCxnSpPr>
          <p:spPr>
            <a:xfrm>
              <a:off x="1904400" y="4114800"/>
              <a:ext cx="541116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160" name="TextBox 6"/>
            <p:cNvSpPr/>
            <p:nvPr/>
          </p:nvSpPr>
          <p:spPr>
            <a:xfrm>
              <a:off x="1828800" y="4267440"/>
              <a:ext cx="510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                                    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Curved Down Arrow 7"/>
            <p:cNvSpPr/>
            <p:nvPr/>
          </p:nvSpPr>
          <p:spPr>
            <a:xfrm>
              <a:off x="1981080" y="3657600"/>
              <a:ext cx="609480" cy="457200"/>
            </a:xfrm>
            <a:custGeom>
              <a:avLst/>
              <a:gdLst>
                <a:gd name="textAreaLeft" fmla="*/ 109440 w 609480"/>
                <a:gd name="textAreaRight" fmla="*/ 442800 w 609480"/>
                <a:gd name="textAreaTop" fmla="*/ 61200 h 457200"/>
                <a:gd name="textAreaBottom" fmla="*/ 39600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763" hR="21600" stAng="10800000" swAng="5400000"/>
                  <a:lnTo>
                    <a:pt x="11813" y="0"/>
                  </a:lnTo>
                  <a:arcTo wR="7763" hR="21600" stAng="-5400000" swAng="3258241"/>
                  <a:lnTo>
                    <a:pt x="21354" y="16200"/>
                  </a:lnTo>
                  <a:lnTo>
                    <a:pt x="17550" y="21600"/>
                  </a:lnTo>
                  <a:lnTo>
                    <a:pt x="13254" y="16200"/>
                  </a:lnTo>
                  <a:lnTo>
                    <a:pt x="15279" y="16200"/>
                  </a:lnTo>
                  <a:arcTo wR="7763" hR="21600" stAng="-2141759" swAng="-2925436"/>
                  <a:lnTo>
                    <a:pt x="9788" y="748"/>
                  </a:lnTo>
                  <a:arcTo wR="7763" hR="21600" stAng="-5732805" swAng="-5067195"/>
                  <a:close/>
                </a:path>
                <a:path fill="darkenLess" w="21600" h="21600">
                  <a:moveTo>
                    <a:pt x="0" y="21600"/>
                  </a:moveTo>
                  <a:arcTo wR="7763" hR="21600" stAng="10800000" swAng="5400000"/>
                  <a:lnTo>
                    <a:pt x="7763" y="0"/>
                  </a:lnTo>
                  <a:arcTo wR="7763" hR="21600" stAng="-5400000" swAng="332805"/>
                  <a:lnTo>
                    <a:pt x="9788" y="748"/>
                  </a:lnTo>
                  <a:arcTo wR="7763" hR="21600" stAng="-5732805" swAng="-5067195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Curved Down Arrow 8"/>
            <p:cNvSpPr/>
            <p:nvPr/>
          </p:nvSpPr>
          <p:spPr>
            <a:xfrm>
              <a:off x="2438280" y="3657600"/>
              <a:ext cx="609480" cy="457200"/>
            </a:xfrm>
            <a:custGeom>
              <a:avLst/>
              <a:gdLst>
                <a:gd name="textAreaLeft" fmla="*/ 109440 w 609480"/>
                <a:gd name="textAreaRight" fmla="*/ 442800 w 609480"/>
                <a:gd name="textAreaTop" fmla="*/ 61200 h 457200"/>
                <a:gd name="textAreaBottom" fmla="*/ 39600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763" hR="21600" stAng="10800000" swAng="5400000"/>
                  <a:lnTo>
                    <a:pt x="11813" y="0"/>
                  </a:lnTo>
                  <a:arcTo wR="7763" hR="21600" stAng="-5400000" swAng="3258241"/>
                  <a:lnTo>
                    <a:pt x="21354" y="16200"/>
                  </a:lnTo>
                  <a:lnTo>
                    <a:pt x="17550" y="21600"/>
                  </a:lnTo>
                  <a:lnTo>
                    <a:pt x="13254" y="16200"/>
                  </a:lnTo>
                  <a:lnTo>
                    <a:pt x="15279" y="16200"/>
                  </a:lnTo>
                  <a:arcTo wR="7763" hR="21600" stAng="-2141759" swAng="-2925436"/>
                  <a:lnTo>
                    <a:pt x="9788" y="748"/>
                  </a:lnTo>
                  <a:arcTo wR="7763" hR="21600" stAng="-5732805" swAng="-5067195"/>
                  <a:close/>
                </a:path>
                <a:path fill="darkenLess" w="21600" h="21600">
                  <a:moveTo>
                    <a:pt x="0" y="21600"/>
                  </a:moveTo>
                  <a:arcTo wR="7763" hR="21600" stAng="10800000" swAng="5400000"/>
                  <a:lnTo>
                    <a:pt x="7763" y="0"/>
                  </a:lnTo>
                  <a:arcTo wR="7763" hR="21600" stAng="-5400000" swAng="332805"/>
                  <a:lnTo>
                    <a:pt x="9788" y="748"/>
                  </a:lnTo>
                  <a:arcTo wR="7763" hR="21600" stAng="-5732805" swAng="-5067195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Curved Down Arrow 9"/>
            <p:cNvSpPr/>
            <p:nvPr/>
          </p:nvSpPr>
          <p:spPr>
            <a:xfrm>
              <a:off x="2895480" y="3657600"/>
              <a:ext cx="609480" cy="457200"/>
            </a:xfrm>
            <a:custGeom>
              <a:avLst/>
              <a:gdLst>
                <a:gd name="textAreaLeft" fmla="*/ 109440 w 609480"/>
                <a:gd name="textAreaRight" fmla="*/ 442800 w 609480"/>
                <a:gd name="textAreaTop" fmla="*/ 61200 h 457200"/>
                <a:gd name="textAreaBottom" fmla="*/ 39600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763" hR="21600" stAng="10800000" swAng="5400000"/>
                  <a:lnTo>
                    <a:pt x="11813" y="0"/>
                  </a:lnTo>
                  <a:arcTo wR="7763" hR="21600" stAng="-5400000" swAng="3258241"/>
                  <a:lnTo>
                    <a:pt x="21354" y="16200"/>
                  </a:lnTo>
                  <a:lnTo>
                    <a:pt x="17550" y="21600"/>
                  </a:lnTo>
                  <a:lnTo>
                    <a:pt x="13254" y="16200"/>
                  </a:lnTo>
                  <a:lnTo>
                    <a:pt x="15279" y="16200"/>
                  </a:lnTo>
                  <a:arcTo wR="7763" hR="21600" stAng="-2141759" swAng="-2925436"/>
                  <a:lnTo>
                    <a:pt x="9788" y="748"/>
                  </a:lnTo>
                  <a:arcTo wR="7763" hR="21600" stAng="-5732805" swAng="-5067195"/>
                  <a:close/>
                </a:path>
                <a:path fill="darkenLess" w="21600" h="21600">
                  <a:moveTo>
                    <a:pt x="0" y="21600"/>
                  </a:moveTo>
                  <a:arcTo wR="7763" hR="21600" stAng="10800000" swAng="5400000"/>
                  <a:lnTo>
                    <a:pt x="7763" y="0"/>
                  </a:lnTo>
                  <a:arcTo wR="7763" hR="21600" stAng="-5400000" swAng="332805"/>
                  <a:lnTo>
                    <a:pt x="9788" y="748"/>
                  </a:lnTo>
                  <a:arcTo wR="7763" hR="21600" stAng="-5732805" swAng="-5067195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Curved Down Arrow 10"/>
            <p:cNvSpPr/>
            <p:nvPr/>
          </p:nvSpPr>
          <p:spPr>
            <a:xfrm>
              <a:off x="3352680" y="3657600"/>
              <a:ext cx="609480" cy="457200"/>
            </a:xfrm>
            <a:custGeom>
              <a:avLst/>
              <a:gdLst>
                <a:gd name="textAreaLeft" fmla="*/ 109440 w 609480"/>
                <a:gd name="textAreaRight" fmla="*/ 442800 w 609480"/>
                <a:gd name="textAreaTop" fmla="*/ 61200 h 457200"/>
                <a:gd name="textAreaBottom" fmla="*/ 39600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763" hR="21600" stAng="10800000" swAng="5400000"/>
                  <a:lnTo>
                    <a:pt x="11813" y="0"/>
                  </a:lnTo>
                  <a:arcTo wR="7763" hR="21600" stAng="-5400000" swAng="3258241"/>
                  <a:lnTo>
                    <a:pt x="21354" y="16200"/>
                  </a:lnTo>
                  <a:lnTo>
                    <a:pt x="17550" y="21600"/>
                  </a:lnTo>
                  <a:lnTo>
                    <a:pt x="13254" y="16200"/>
                  </a:lnTo>
                  <a:lnTo>
                    <a:pt x="15279" y="16200"/>
                  </a:lnTo>
                  <a:arcTo wR="7763" hR="21600" stAng="-2141759" swAng="-2925436"/>
                  <a:lnTo>
                    <a:pt x="9788" y="748"/>
                  </a:lnTo>
                  <a:arcTo wR="7763" hR="21600" stAng="-5732805" swAng="-5067195"/>
                  <a:close/>
                </a:path>
                <a:path fill="darkenLess" w="21600" h="21600">
                  <a:moveTo>
                    <a:pt x="0" y="21600"/>
                  </a:moveTo>
                  <a:arcTo wR="7763" hR="21600" stAng="10800000" swAng="5400000"/>
                  <a:lnTo>
                    <a:pt x="7763" y="0"/>
                  </a:lnTo>
                  <a:arcTo wR="7763" hR="21600" stAng="-5400000" swAng="332805"/>
                  <a:lnTo>
                    <a:pt x="9788" y="748"/>
                  </a:lnTo>
                  <a:arcTo wR="7763" hR="21600" stAng="-5732805" swAng="-5067195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Curved Down Arrow 11"/>
            <p:cNvSpPr/>
            <p:nvPr/>
          </p:nvSpPr>
          <p:spPr>
            <a:xfrm>
              <a:off x="3809880" y="3657600"/>
              <a:ext cx="609480" cy="457200"/>
            </a:xfrm>
            <a:custGeom>
              <a:avLst/>
              <a:gdLst>
                <a:gd name="textAreaLeft" fmla="*/ 109440 w 609480"/>
                <a:gd name="textAreaRight" fmla="*/ 442800 w 609480"/>
                <a:gd name="textAreaTop" fmla="*/ 61200 h 457200"/>
                <a:gd name="textAreaBottom" fmla="*/ 39600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763" hR="21600" stAng="10800000" swAng="5400000"/>
                  <a:lnTo>
                    <a:pt x="11813" y="0"/>
                  </a:lnTo>
                  <a:arcTo wR="7763" hR="21600" stAng="-5400000" swAng="3258241"/>
                  <a:lnTo>
                    <a:pt x="21354" y="16200"/>
                  </a:lnTo>
                  <a:lnTo>
                    <a:pt x="17550" y="21600"/>
                  </a:lnTo>
                  <a:lnTo>
                    <a:pt x="13254" y="16200"/>
                  </a:lnTo>
                  <a:lnTo>
                    <a:pt x="15279" y="16200"/>
                  </a:lnTo>
                  <a:arcTo wR="7763" hR="21600" stAng="-2141759" swAng="-2925436"/>
                  <a:lnTo>
                    <a:pt x="9788" y="748"/>
                  </a:lnTo>
                  <a:arcTo wR="7763" hR="21600" stAng="-5732805" swAng="-5067195"/>
                  <a:close/>
                </a:path>
                <a:path fill="darkenLess" w="21600" h="21600">
                  <a:moveTo>
                    <a:pt x="0" y="21600"/>
                  </a:moveTo>
                  <a:arcTo wR="7763" hR="21600" stAng="10800000" swAng="5400000"/>
                  <a:lnTo>
                    <a:pt x="7763" y="0"/>
                  </a:lnTo>
                  <a:arcTo wR="7763" hR="21600" stAng="-5400000" swAng="332805"/>
                  <a:lnTo>
                    <a:pt x="9788" y="748"/>
                  </a:lnTo>
                  <a:arcTo wR="7763" hR="21600" stAng="-5732805" swAng="-5067195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Curved Down Arrow 12"/>
            <p:cNvSpPr/>
            <p:nvPr/>
          </p:nvSpPr>
          <p:spPr>
            <a:xfrm>
              <a:off x="4267080" y="3657600"/>
              <a:ext cx="609480" cy="457200"/>
            </a:xfrm>
            <a:custGeom>
              <a:avLst/>
              <a:gdLst>
                <a:gd name="textAreaLeft" fmla="*/ 109440 w 609480"/>
                <a:gd name="textAreaRight" fmla="*/ 442800 w 609480"/>
                <a:gd name="textAreaTop" fmla="*/ 61200 h 457200"/>
                <a:gd name="textAreaBottom" fmla="*/ 39600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763" hR="21600" stAng="10800000" swAng="5400000"/>
                  <a:lnTo>
                    <a:pt x="11813" y="0"/>
                  </a:lnTo>
                  <a:arcTo wR="7763" hR="21600" stAng="-5400000" swAng="3258241"/>
                  <a:lnTo>
                    <a:pt x="21354" y="16200"/>
                  </a:lnTo>
                  <a:lnTo>
                    <a:pt x="17550" y="21600"/>
                  </a:lnTo>
                  <a:lnTo>
                    <a:pt x="13254" y="16200"/>
                  </a:lnTo>
                  <a:lnTo>
                    <a:pt x="15279" y="16200"/>
                  </a:lnTo>
                  <a:arcTo wR="7763" hR="21600" stAng="-2141759" swAng="-2925436"/>
                  <a:lnTo>
                    <a:pt x="9788" y="748"/>
                  </a:lnTo>
                  <a:arcTo wR="7763" hR="21600" stAng="-5732805" swAng="-5067195"/>
                  <a:close/>
                </a:path>
                <a:path fill="darkenLess" w="21600" h="21600">
                  <a:moveTo>
                    <a:pt x="0" y="21600"/>
                  </a:moveTo>
                  <a:arcTo wR="7763" hR="21600" stAng="10800000" swAng="5400000"/>
                  <a:lnTo>
                    <a:pt x="7763" y="0"/>
                  </a:lnTo>
                  <a:arcTo wR="7763" hR="21600" stAng="-5400000" swAng="332805"/>
                  <a:lnTo>
                    <a:pt x="9788" y="748"/>
                  </a:lnTo>
                  <a:arcTo wR="7763" hR="21600" stAng="-5732805" swAng="-5067195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Curved Down Arrow 13"/>
            <p:cNvSpPr/>
            <p:nvPr/>
          </p:nvSpPr>
          <p:spPr>
            <a:xfrm>
              <a:off x="4724280" y="3657600"/>
              <a:ext cx="609480" cy="457200"/>
            </a:xfrm>
            <a:custGeom>
              <a:avLst/>
              <a:gdLst>
                <a:gd name="textAreaLeft" fmla="*/ 109440 w 609480"/>
                <a:gd name="textAreaRight" fmla="*/ 442800 w 609480"/>
                <a:gd name="textAreaTop" fmla="*/ 61200 h 457200"/>
                <a:gd name="textAreaBottom" fmla="*/ 39600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763" hR="21600" stAng="10800000" swAng="5400000"/>
                  <a:lnTo>
                    <a:pt x="11813" y="0"/>
                  </a:lnTo>
                  <a:arcTo wR="7763" hR="21600" stAng="-5400000" swAng="3258241"/>
                  <a:lnTo>
                    <a:pt x="21354" y="16200"/>
                  </a:lnTo>
                  <a:lnTo>
                    <a:pt x="17550" y="21600"/>
                  </a:lnTo>
                  <a:lnTo>
                    <a:pt x="13254" y="16200"/>
                  </a:lnTo>
                  <a:lnTo>
                    <a:pt x="15279" y="16200"/>
                  </a:lnTo>
                  <a:arcTo wR="7763" hR="21600" stAng="-2141759" swAng="-2925436"/>
                  <a:lnTo>
                    <a:pt x="9788" y="748"/>
                  </a:lnTo>
                  <a:arcTo wR="7763" hR="21600" stAng="-5732805" swAng="-5067195"/>
                  <a:close/>
                </a:path>
                <a:path fill="darkenLess" w="21600" h="21600">
                  <a:moveTo>
                    <a:pt x="0" y="21600"/>
                  </a:moveTo>
                  <a:arcTo wR="7763" hR="21600" stAng="10800000" swAng="5400000"/>
                  <a:lnTo>
                    <a:pt x="7763" y="0"/>
                  </a:lnTo>
                  <a:arcTo wR="7763" hR="21600" stAng="-5400000" swAng="332805"/>
                  <a:lnTo>
                    <a:pt x="9788" y="748"/>
                  </a:lnTo>
                  <a:arcTo wR="7763" hR="21600" stAng="-5732805" swAng="-5067195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8" name="Picture 4" descr="Screen shot 2012-07-17 at 2.52.06 PM.png"/>
          <p:cNvPicPr/>
          <p:nvPr/>
        </p:nvPicPr>
        <p:blipFill>
          <a:blip r:embed="rId1"/>
          <a:stretch/>
        </p:blipFill>
        <p:spPr>
          <a:xfrm>
            <a:off x="6095880" y="4419720"/>
            <a:ext cx="1955880" cy="97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ounting by fraction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? is more than 2. How big might your hop be? Where would 1 and 2 be? Expl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9B485-1649-4DCE-B6A2-24B6A22C9EB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Group 14"/>
          <p:cNvGrpSpPr/>
          <p:nvPr/>
        </p:nvGrpSpPr>
        <p:grpSpPr>
          <a:xfrm>
            <a:off x="1828800" y="3657600"/>
            <a:ext cx="5486400" cy="1069560"/>
            <a:chOff x="1828800" y="3657600"/>
            <a:chExt cx="5486400" cy="1069560"/>
          </a:xfrm>
        </p:grpSpPr>
        <p:cxnSp>
          <p:nvCxnSpPr>
            <p:cNvPr id="173" name="Straight Arrow Connector 5"/>
            <p:cNvCxnSpPr/>
            <p:nvPr/>
          </p:nvCxnSpPr>
          <p:spPr>
            <a:xfrm>
              <a:off x="1904400" y="4114800"/>
              <a:ext cx="541116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174" name="TextBox 6"/>
            <p:cNvSpPr/>
            <p:nvPr/>
          </p:nvSpPr>
          <p:spPr>
            <a:xfrm>
              <a:off x="1828800" y="4267440"/>
              <a:ext cx="510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         1          2             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Curved Down Arrow 7"/>
            <p:cNvSpPr/>
            <p:nvPr/>
          </p:nvSpPr>
          <p:spPr>
            <a:xfrm>
              <a:off x="1981080" y="3657600"/>
              <a:ext cx="609480" cy="457200"/>
            </a:xfrm>
            <a:custGeom>
              <a:avLst/>
              <a:gdLst>
                <a:gd name="textAreaLeft" fmla="*/ 109440 w 609480"/>
                <a:gd name="textAreaRight" fmla="*/ 442800 w 609480"/>
                <a:gd name="textAreaTop" fmla="*/ 61200 h 457200"/>
                <a:gd name="textAreaBottom" fmla="*/ 39600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763" hR="21600" stAng="10800000" swAng="5400000"/>
                  <a:lnTo>
                    <a:pt x="11813" y="0"/>
                  </a:lnTo>
                  <a:arcTo wR="7763" hR="21600" stAng="-5400000" swAng="3258241"/>
                  <a:lnTo>
                    <a:pt x="21354" y="16200"/>
                  </a:lnTo>
                  <a:lnTo>
                    <a:pt x="17550" y="21600"/>
                  </a:lnTo>
                  <a:lnTo>
                    <a:pt x="13254" y="16200"/>
                  </a:lnTo>
                  <a:lnTo>
                    <a:pt x="15279" y="16200"/>
                  </a:lnTo>
                  <a:arcTo wR="7763" hR="21600" stAng="-2141759" swAng="-2925436"/>
                  <a:lnTo>
                    <a:pt x="9788" y="748"/>
                  </a:lnTo>
                  <a:arcTo wR="7763" hR="21600" stAng="-5732805" swAng="-5067195"/>
                  <a:close/>
                </a:path>
                <a:path fill="darkenLess" w="21600" h="21600">
                  <a:moveTo>
                    <a:pt x="0" y="21600"/>
                  </a:moveTo>
                  <a:arcTo wR="7763" hR="21600" stAng="10800000" swAng="5400000"/>
                  <a:lnTo>
                    <a:pt x="7763" y="0"/>
                  </a:lnTo>
                  <a:arcTo wR="7763" hR="21600" stAng="-5400000" swAng="332805"/>
                  <a:lnTo>
                    <a:pt x="9788" y="748"/>
                  </a:lnTo>
                  <a:arcTo wR="7763" hR="21600" stAng="-5732805" swAng="-5067195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Curved Down Arrow 8"/>
            <p:cNvSpPr/>
            <p:nvPr/>
          </p:nvSpPr>
          <p:spPr>
            <a:xfrm>
              <a:off x="2438280" y="3657600"/>
              <a:ext cx="609480" cy="457200"/>
            </a:xfrm>
            <a:custGeom>
              <a:avLst/>
              <a:gdLst>
                <a:gd name="textAreaLeft" fmla="*/ 109440 w 609480"/>
                <a:gd name="textAreaRight" fmla="*/ 442800 w 609480"/>
                <a:gd name="textAreaTop" fmla="*/ 61200 h 457200"/>
                <a:gd name="textAreaBottom" fmla="*/ 39600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763" hR="21600" stAng="10800000" swAng="5400000"/>
                  <a:lnTo>
                    <a:pt x="11813" y="0"/>
                  </a:lnTo>
                  <a:arcTo wR="7763" hR="21600" stAng="-5400000" swAng="3258241"/>
                  <a:lnTo>
                    <a:pt x="21354" y="16200"/>
                  </a:lnTo>
                  <a:lnTo>
                    <a:pt x="17550" y="21600"/>
                  </a:lnTo>
                  <a:lnTo>
                    <a:pt x="13254" y="16200"/>
                  </a:lnTo>
                  <a:lnTo>
                    <a:pt x="15279" y="16200"/>
                  </a:lnTo>
                  <a:arcTo wR="7763" hR="21600" stAng="-2141759" swAng="-2925436"/>
                  <a:lnTo>
                    <a:pt x="9788" y="748"/>
                  </a:lnTo>
                  <a:arcTo wR="7763" hR="21600" stAng="-5732805" swAng="-5067195"/>
                  <a:close/>
                </a:path>
                <a:path fill="darkenLess" w="21600" h="21600">
                  <a:moveTo>
                    <a:pt x="0" y="21600"/>
                  </a:moveTo>
                  <a:arcTo wR="7763" hR="21600" stAng="10800000" swAng="5400000"/>
                  <a:lnTo>
                    <a:pt x="7763" y="0"/>
                  </a:lnTo>
                  <a:arcTo wR="7763" hR="21600" stAng="-5400000" swAng="332805"/>
                  <a:lnTo>
                    <a:pt x="9788" y="748"/>
                  </a:lnTo>
                  <a:arcTo wR="7763" hR="21600" stAng="-5732805" swAng="-5067195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Curved Down Arrow 9"/>
            <p:cNvSpPr/>
            <p:nvPr/>
          </p:nvSpPr>
          <p:spPr>
            <a:xfrm>
              <a:off x="2895480" y="3657600"/>
              <a:ext cx="609480" cy="457200"/>
            </a:xfrm>
            <a:custGeom>
              <a:avLst/>
              <a:gdLst>
                <a:gd name="textAreaLeft" fmla="*/ 109440 w 609480"/>
                <a:gd name="textAreaRight" fmla="*/ 442800 w 609480"/>
                <a:gd name="textAreaTop" fmla="*/ 61200 h 457200"/>
                <a:gd name="textAreaBottom" fmla="*/ 39600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763" hR="21600" stAng="10800000" swAng="5400000"/>
                  <a:lnTo>
                    <a:pt x="11813" y="0"/>
                  </a:lnTo>
                  <a:arcTo wR="7763" hR="21600" stAng="-5400000" swAng="3258241"/>
                  <a:lnTo>
                    <a:pt x="21354" y="16200"/>
                  </a:lnTo>
                  <a:lnTo>
                    <a:pt x="17550" y="21600"/>
                  </a:lnTo>
                  <a:lnTo>
                    <a:pt x="13254" y="16200"/>
                  </a:lnTo>
                  <a:lnTo>
                    <a:pt x="15279" y="16200"/>
                  </a:lnTo>
                  <a:arcTo wR="7763" hR="21600" stAng="-2141759" swAng="-2925436"/>
                  <a:lnTo>
                    <a:pt x="9788" y="748"/>
                  </a:lnTo>
                  <a:arcTo wR="7763" hR="21600" stAng="-5732805" swAng="-5067195"/>
                  <a:close/>
                </a:path>
                <a:path fill="darkenLess" w="21600" h="21600">
                  <a:moveTo>
                    <a:pt x="0" y="21600"/>
                  </a:moveTo>
                  <a:arcTo wR="7763" hR="21600" stAng="10800000" swAng="5400000"/>
                  <a:lnTo>
                    <a:pt x="7763" y="0"/>
                  </a:lnTo>
                  <a:arcTo wR="7763" hR="21600" stAng="-5400000" swAng="332805"/>
                  <a:lnTo>
                    <a:pt x="9788" y="748"/>
                  </a:lnTo>
                  <a:arcTo wR="7763" hR="21600" stAng="-5732805" swAng="-5067195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Curved Down Arrow 10"/>
            <p:cNvSpPr/>
            <p:nvPr/>
          </p:nvSpPr>
          <p:spPr>
            <a:xfrm>
              <a:off x="3352680" y="3657600"/>
              <a:ext cx="609480" cy="457200"/>
            </a:xfrm>
            <a:custGeom>
              <a:avLst/>
              <a:gdLst>
                <a:gd name="textAreaLeft" fmla="*/ 109440 w 609480"/>
                <a:gd name="textAreaRight" fmla="*/ 442800 w 609480"/>
                <a:gd name="textAreaTop" fmla="*/ 61200 h 457200"/>
                <a:gd name="textAreaBottom" fmla="*/ 39600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763" hR="21600" stAng="10800000" swAng="5400000"/>
                  <a:lnTo>
                    <a:pt x="11813" y="0"/>
                  </a:lnTo>
                  <a:arcTo wR="7763" hR="21600" stAng="-5400000" swAng="3258241"/>
                  <a:lnTo>
                    <a:pt x="21354" y="16200"/>
                  </a:lnTo>
                  <a:lnTo>
                    <a:pt x="17550" y="21600"/>
                  </a:lnTo>
                  <a:lnTo>
                    <a:pt x="13254" y="16200"/>
                  </a:lnTo>
                  <a:lnTo>
                    <a:pt x="15279" y="16200"/>
                  </a:lnTo>
                  <a:arcTo wR="7763" hR="21600" stAng="-2141759" swAng="-2925436"/>
                  <a:lnTo>
                    <a:pt x="9788" y="748"/>
                  </a:lnTo>
                  <a:arcTo wR="7763" hR="21600" stAng="-5732805" swAng="-5067195"/>
                  <a:close/>
                </a:path>
                <a:path fill="darkenLess" w="21600" h="21600">
                  <a:moveTo>
                    <a:pt x="0" y="21600"/>
                  </a:moveTo>
                  <a:arcTo wR="7763" hR="21600" stAng="10800000" swAng="5400000"/>
                  <a:lnTo>
                    <a:pt x="7763" y="0"/>
                  </a:lnTo>
                  <a:arcTo wR="7763" hR="21600" stAng="-5400000" swAng="332805"/>
                  <a:lnTo>
                    <a:pt x="9788" y="748"/>
                  </a:lnTo>
                  <a:arcTo wR="7763" hR="21600" stAng="-5732805" swAng="-5067195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Curved Down Arrow 11"/>
            <p:cNvSpPr/>
            <p:nvPr/>
          </p:nvSpPr>
          <p:spPr>
            <a:xfrm>
              <a:off x="3809880" y="3657600"/>
              <a:ext cx="609480" cy="457200"/>
            </a:xfrm>
            <a:custGeom>
              <a:avLst/>
              <a:gdLst>
                <a:gd name="textAreaLeft" fmla="*/ 109440 w 609480"/>
                <a:gd name="textAreaRight" fmla="*/ 442800 w 609480"/>
                <a:gd name="textAreaTop" fmla="*/ 61200 h 457200"/>
                <a:gd name="textAreaBottom" fmla="*/ 39600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763" hR="21600" stAng="10800000" swAng="5400000"/>
                  <a:lnTo>
                    <a:pt x="11813" y="0"/>
                  </a:lnTo>
                  <a:arcTo wR="7763" hR="21600" stAng="-5400000" swAng="3258241"/>
                  <a:lnTo>
                    <a:pt x="21354" y="16200"/>
                  </a:lnTo>
                  <a:lnTo>
                    <a:pt x="17550" y="21600"/>
                  </a:lnTo>
                  <a:lnTo>
                    <a:pt x="13254" y="16200"/>
                  </a:lnTo>
                  <a:lnTo>
                    <a:pt x="15279" y="16200"/>
                  </a:lnTo>
                  <a:arcTo wR="7763" hR="21600" stAng="-2141759" swAng="-2925436"/>
                  <a:lnTo>
                    <a:pt x="9788" y="748"/>
                  </a:lnTo>
                  <a:arcTo wR="7763" hR="21600" stAng="-5732805" swAng="-5067195"/>
                  <a:close/>
                </a:path>
                <a:path fill="darkenLess" w="21600" h="21600">
                  <a:moveTo>
                    <a:pt x="0" y="21600"/>
                  </a:moveTo>
                  <a:arcTo wR="7763" hR="21600" stAng="10800000" swAng="5400000"/>
                  <a:lnTo>
                    <a:pt x="7763" y="0"/>
                  </a:lnTo>
                  <a:arcTo wR="7763" hR="21600" stAng="-5400000" swAng="332805"/>
                  <a:lnTo>
                    <a:pt x="9788" y="748"/>
                  </a:lnTo>
                  <a:arcTo wR="7763" hR="21600" stAng="-5732805" swAng="-5067195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Curved Down Arrow 12"/>
            <p:cNvSpPr/>
            <p:nvPr/>
          </p:nvSpPr>
          <p:spPr>
            <a:xfrm>
              <a:off x="4267080" y="3657600"/>
              <a:ext cx="609480" cy="457200"/>
            </a:xfrm>
            <a:custGeom>
              <a:avLst/>
              <a:gdLst>
                <a:gd name="textAreaLeft" fmla="*/ 109440 w 609480"/>
                <a:gd name="textAreaRight" fmla="*/ 442800 w 609480"/>
                <a:gd name="textAreaTop" fmla="*/ 61200 h 457200"/>
                <a:gd name="textAreaBottom" fmla="*/ 39600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763" hR="21600" stAng="10800000" swAng="5400000"/>
                  <a:lnTo>
                    <a:pt x="11813" y="0"/>
                  </a:lnTo>
                  <a:arcTo wR="7763" hR="21600" stAng="-5400000" swAng="3258241"/>
                  <a:lnTo>
                    <a:pt x="21354" y="16200"/>
                  </a:lnTo>
                  <a:lnTo>
                    <a:pt x="17550" y="21600"/>
                  </a:lnTo>
                  <a:lnTo>
                    <a:pt x="13254" y="16200"/>
                  </a:lnTo>
                  <a:lnTo>
                    <a:pt x="15279" y="16200"/>
                  </a:lnTo>
                  <a:arcTo wR="7763" hR="21600" stAng="-2141759" swAng="-2925436"/>
                  <a:lnTo>
                    <a:pt x="9788" y="748"/>
                  </a:lnTo>
                  <a:arcTo wR="7763" hR="21600" stAng="-5732805" swAng="-5067195"/>
                  <a:close/>
                </a:path>
                <a:path fill="darkenLess" w="21600" h="21600">
                  <a:moveTo>
                    <a:pt x="0" y="21600"/>
                  </a:moveTo>
                  <a:arcTo wR="7763" hR="21600" stAng="10800000" swAng="5400000"/>
                  <a:lnTo>
                    <a:pt x="7763" y="0"/>
                  </a:lnTo>
                  <a:arcTo wR="7763" hR="21600" stAng="-5400000" swAng="332805"/>
                  <a:lnTo>
                    <a:pt x="9788" y="748"/>
                  </a:lnTo>
                  <a:arcTo wR="7763" hR="21600" stAng="-5732805" swAng="-5067195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Curved Down Arrow 13"/>
            <p:cNvSpPr/>
            <p:nvPr/>
          </p:nvSpPr>
          <p:spPr>
            <a:xfrm>
              <a:off x="4724280" y="3657600"/>
              <a:ext cx="609480" cy="457200"/>
            </a:xfrm>
            <a:custGeom>
              <a:avLst/>
              <a:gdLst>
                <a:gd name="textAreaLeft" fmla="*/ 109440 w 609480"/>
                <a:gd name="textAreaRight" fmla="*/ 442800 w 609480"/>
                <a:gd name="textAreaTop" fmla="*/ 61200 h 457200"/>
                <a:gd name="textAreaBottom" fmla="*/ 39600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763" hR="21600" stAng="10800000" swAng="5400000"/>
                  <a:lnTo>
                    <a:pt x="11813" y="0"/>
                  </a:lnTo>
                  <a:arcTo wR="7763" hR="21600" stAng="-5400000" swAng="3258241"/>
                  <a:lnTo>
                    <a:pt x="21354" y="16200"/>
                  </a:lnTo>
                  <a:lnTo>
                    <a:pt x="17550" y="21600"/>
                  </a:lnTo>
                  <a:lnTo>
                    <a:pt x="13254" y="16200"/>
                  </a:lnTo>
                  <a:lnTo>
                    <a:pt x="15279" y="16200"/>
                  </a:lnTo>
                  <a:arcTo wR="7763" hR="21600" stAng="-2141759" swAng="-2925436"/>
                  <a:lnTo>
                    <a:pt x="9788" y="748"/>
                  </a:lnTo>
                  <a:arcTo wR="7763" hR="21600" stAng="-5732805" swAng="-5067195"/>
                  <a:close/>
                </a:path>
                <a:path fill="darkenLess" w="21600" h="21600">
                  <a:moveTo>
                    <a:pt x="0" y="21600"/>
                  </a:moveTo>
                  <a:arcTo wR="7763" hR="21600" stAng="10800000" swAng="5400000"/>
                  <a:lnTo>
                    <a:pt x="7763" y="0"/>
                  </a:lnTo>
                  <a:arcTo wR="7763" hR="21600" stAng="-5400000" swAng="332805"/>
                  <a:lnTo>
                    <a:pt x="9788" y="748"/>
                  </a:lnTo>
                  <a:arcTo wR="7763" hR="21600" stAng="-5732805" swAng="-5067195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TextBox 14"/>
          <p:cNvSpPr/>
          <p:nvPr/>
        </p:nvSpPr>
        <p:spPr>
          <a:xfrm>
            <a:off x="1981080" y="3276720"/>
            <a:ext cx="83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/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ounting by fraction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? is more than 2. How big might your hop be? Where would 1 and 2 be? Expl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2B233-E422-4312-A24C-12738BB8223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Group 14"/>
          <p:cNvGrpSpPr/>
          <p:nvPr/>
        </p:nvGrpSpPr>
        <p:grpSpPr>
          <a:xfrm>
            <a:off x="1828800" y="3657600"/>
            <a:ext cx="5486400" cy="1069560"/>
            <a:chOff x="1828800" y="3657600"/>
            <a:chExt cx="5486400" cy="1069560"/>
          </a:xfrm>
        </p:grpSpPr>
        <p:cxnSp>
          <p:nvCxnSpPr>
            <p:cNvPr id="187" name="Straight Arrow Connector 5"/>
            <p:cNvCxnSpPr/>
            <p:nvPr/>
          </p:nvCxnSpPr>
          <p:spPr>
            <a:xfrm>
              <a:off x="1904400" y="4114800"/>
              <a:ext cx="541116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188" name="TextBox 6"/>
            <p:cNvSpPr/>
            <p:nvPr/>
          </p:nvSpPr>
          <p:spPr>
            <a:xfrm>
              <a:off x="1828800" y="4267440"/>
              <a:ext cx="510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               1              2   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Curved Down Arrow 7"/>
            <p:cNvSpPr/>
            <p:nvPr/>
          </p:nvSpPr>
          <p:spPr>
            <a:xfrm>
              <a:off x="1981080" y="3657600"/>
              <a:ext cx="609480" cy="457200"/>
            </a:xfrm>
            <a:custGeom>
              <a:avLst/>
              <a:gdLst>
                <a:gd name="textAreaLeft" fmla="*/ 109440 w 609480"/>
                <a:gd name="textAreaRight" fmla="*/ 442800 w 609480"/>
                <a:gd name="textAreaTop" fmla="*/ 61200 h 457200"/>
                <a:gd name="textAreaBottom" fmla="*/ 39600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763" hR="21600" stAng="10800000" swAng="5400000"/>
                  <a:lnTo>
                    <a:pt x="11813" y="0"/>
                  </a:lnTo>
                  <a:arcTo wR="7763" hR="21600" stAng="-5400000" swAng="3258241"/>
                  <a:lnTo>
                    <a:pt x="21354" y="16200"/>
                  </a:lnTo>
                  <a:lnTo>
                    <a:pt x="17550" y="21600"/>
                  </a:lnTo>
                  <a:lnTo>
                    <a:pt x="13254" y="16200"/>
                  </a:lnTo>
                  <a:lnTo>
                    <a:pt x="15279" y="16200"/>
                  </a:lnTo>
                  <a:arcTo wR="7763" hR="21600" stAng="-2141759" swAng="-2925436"/>
                  <a:lnTo>
                    <a:pt x="9788" y="748"/>
                  </a:lnTo>
                  <a:arcTo wR="7763" hR="21600" stAng="-5732805" swAng="-5067195"/>
                  <a:close/>
                </a:path>
                <a:path fill="darkenLess" w="21600" h="21600">
                  <a:moveTo>
                    <a:pt x="0" y="21600"/>
                  </a:moveTo>
                  <a:arcTo wR="7763" hR="21600" stAng="10800000" swAng="5400000"/>
                  <a:lnTo>
                    <a:pt x="7763" y="0"/>
                  </a:lnTo>
                  <a:arcTo wR="7763" hR="21600" stAng="-5400000" swAng="332805"/>
                  <a:lnTo>
                    <a:pt x="9788" y="748"/>
                  </a:lnTo>
                  <a:arcTo wR="7763" hR="21600" stAng="-5732805" swAng="-5067195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Curved Down Arrow 8"/>
            <p:cNvSpPr/>
            <p:nvPr/>
          </p:nvSpPr>
          <p:spPr>
            <a:xfrm>
              <a:off x="2438280" y="3657600"/>
              <a:ext cx="609480" cy="457200"/>
            </a:xfrm>
            <a:custGeom>
              <a:avLst/>
              <a:gdLst>
                <a:gd name="textAreaLeft" fmla="*/ 109440 w 609480"/>
                <a:gd name="textAreaRight" fmla="*/ 442800 w 609480"/>
                <a:gd name="textAreaTop" fmla="*/ 61200 h 457200"/>
                <a:gd name="textAreaBottom" fmla="*/ 39600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763" hR="21600" stAng="10800000" swAng="5400000"/>
                  <a:lnTo>
                    <a:pt x="11813" y="0"/>
                  </a:lnTo>
                  <a:arcTo wR="7763" hR="21600" stAng="-5400000" swAng="3258241"/>
                  <a:lnTo>
                    <a:pt x="21354" y="16200"/>
                  </a:lnTo>
                  <a:lnTo>
                    <a:pt x="17550" y="21600"/>
                  </a:lnTo>
                  <a:lnTo>
                    <a:pt x="13254" y="16200"/>
                  </a:lnTo>
                  <a:lnTo>
                    <a:pt x="15279" y="16200"/>
                  </a:lnTo>
                  <a:arcTo wR="7763" hR="21600" stAng="-2141759" swAng="-2925436"/>
                  <a:lnTo>
                    <a:pt x="9788" y="748"/>
                  </a:lnTo>
                  <a:arcTo wR="7763" hR="21600" stAng="-5732805" swAng="-5067195"/>
                  <a:close/>
                </a:path>
                <a:path fill="darkenLess" w="21600" h="21600">
                  <a:moveTo>
                    <a:pt x="0" y="21600"/>
                  </a:moveTo>
                  <a:arcTo wR="7763" hR="21600" stAng="10800000" swAng="5400000"/>
                  <a:lnTo>
                    <a:pt x="7763" y="0"/>
                  </a:lnTo>
                  <a:arcTo wR="7763" hR="21600" stAng="-5400000" swAng="332805"/>
                  <a:lnTo>
                    <a:pt x="9788" y="748"/>
                  </a:lnTo>
                  <a:arcTo wR="7763" hR="21600" stAng="-5732805" swAng="-5067195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Curved Down Arrow 9"/>
            <p:cNvSpPr/>
            <p:nvPr/>
          </p:nvSpPr>
          <p:spPr>
            <a:xfrm>
              <a:off x="2895480" y="3657600"/>
              <a:ext cx="609480" cy="457200"/>
            </a:xfrm>
            <a:custGeom>
              <a:avLst/>
              <a:gdLst>
                <a:gd name="textAreaLeft" fmla="*/ 109440 w 609480"/>
                <a:gd name="textAreaRight" fmla="*/ 442800 w 609480"/>
                <a:gd name="textAreaTop" fmla="*/ 61200 h 457200"/>
                <a:gd name="textAreaBottom" fmla="*/ 39600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763" hR="21600" stAng="10800000" swAng="5400000"/>
                  <a:lnTo>
                    <a:pt x="11813" y="0"/>
                  </a:lnTo>
                  <a:arcTo wR="7763" hR="21600" stAng="-5400000" swAng="3258241"/>
                  <a:lnTo>
                    <a:pt x="21354" y="16200"/>
                  </a:lnTo>
                  <a:lnTo>
                    <a:pt x="17550" y="21600"/>
                  </a:lnTo>
                  <a:lnTo>
                    <a:pt x="13254" y="16200"/>
                  </a:lnTo>
                  <a:lnTo>
                    <a:pt x="15279" y="16200"/>
                  </a:lnTo>
                  <a:arcTo wR="7763" hR="21600" stAng="-2141759" swAng="-2925436"/>
                  <a:lnTo>
                    <a:pt x="9788" y="748"/>
                  </a:lnTo>
                  <a:arcTo wR="7763" hR="21600" stAng="-5732805" swAng="-5067195"/>
                  <a:close/>
                </a:path>
                <a:path fill="darkenLess" w="21600" h="21600">
                  <a:moveTo>
                    <a:pt x="0" y="21600"/>
                  </a:moveTo>
                  <a:arcTo wR="7763" hR="21600" stAng="10800000" swAng="5400000"/>
                  <a:lnTo>
                    <a:pt x="7763" y="0"/>
                  </a:lnTo>
                  <a:arcTo wR="7763" hR="21600" stAng="-5400000" swAng="332805"/>
                  <a:lnTo>
                    <a:pt x="9788" y="748"/>
                  </a:lnTo>
                  <a:arcTo wR="7763" hR="21600" stAng="-5732805" swAng="-5067195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Curved Down Arrow 10"/>
            <p:cNvSpPr/>
            <p:nvPr/>
          </p:nvSpPr>
          <p:spPr>
            <a:xfrm>
              <a:off x="3352680" y="3657600"/>
              <a:ext cx="609480" cy="457200"/>
            </a:xfrm>
            <a:custGeom>
              <a:avLst/>
              <a:gdLst>
                <a:gd name="textAreaLeft" fmla="*/ 109440 w 609480"/>
                <a:gd name="textAreaRight" fmla="*/ 442800 w 609480"/>
                <a:gd name="textAreaTop" fmla="*/ 61200 h 457200"/>
                <a:gd name="textAreaBottom" fmla="*/ 39600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763" hR="21600" stAng="10800000" swAng="5400000"/>
                  <a:lnTo>
                    <a:pt x="11813" y="0"/>
                  </a:lnTo>
                  <a:arcTo wR="7763" hR="21600" stAng="-5400000" swAng="3258241"/>
                  <a:lnTo>
                    <a:pt x="21354" y="16200"/>
                  </a:lnTo>
                  <a:lnTo>
                    <a:pt x="17550" y="21600"/>
                  </a:lnTo>
                  <a:lnTo>
                    <a:pt x="13254" y="16200"/>
                  </a:lnTo>
                  <a:lnTo>
                    <a:pt x="15279" y="16200"/>
                  </a:lnTo>
                  <a:arcTo wR="7763" hR="21600" stAng="-2141759" swAng="-2925436"/>
                  <a:lnTo>
                    <a:pt x="9788" y="748"/>
                  </a:lnTo>
                  <a:arcTo wR="7763" hR="21600" stAng="-5732805" swAng="-5067195"/>
                  <a:close/>
                </a:path>
                <a:path fill="darkenLess" w="21600" h="21600">
                  <a:moveTo>
                    <a:pt x="0" y="21600"/>
                  </a:moveTo>
                  <a:arcTo wR="7763" hR="21600" stAng="10800000" swAng="5400000"/>
                  <a:lnTo>
                    <a:pt x="7763" y="0"/>
                  </a:lnTo>
                  <a:arcTo wR="7763" hR="21600" stAng="-5400000" swAng="332805"/>
                  <a:lnTo>
                    <a:pt x="9788" y="748"/>
                  </a:lnTo>
                  <a:arcTo wR="7763" hR="21600" stAng="-5732805" swAng="-5067195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Curved Down Arrow 11"/>
            <p:cNvSpPr/>
            <p:nvPr/>
          </p:nvSpPr>
          <p:spPr>
            <a:xfrm>
              <a:off x="3809880" y="3657600"/>
              <a:ext cx="609480" cy="457200"/>
            </a:xfrm>
            <a:custGeom>
              <a:avLst/>
              <a:gdLst>
                <a:gd name="textAreaLeft" fmla="*/ 109440 w 609480"/>
                <a:gd name="textAreaRight" fmla="*/ 442800 w 609480"/>
                <a:gd name="textAreaTop" fmla="*/ 61200 h 457200"/>
                <a:gd name="textAreaBottom" fmla="*/ 39600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763" hR="21600" stAng="10800000" swAng="5400000"/>
                  <a:lnTo>
                    <a:pt x="11813" y="0"/>
                  </a:lnTo>
                  <a:arcTo wR="7763" hR="21600" stAng="-5400000" swAng="3258241"/>
                  <a:lnTo>
                    <a:pt x="21354" y="16200"/>
                  </a:lnTo>
                  <a:lnTo>
                    <a:pt x="17550" y="21600"/>
                  </a:lnTo>
                  <a:lnTo>
                    <a:pt x="13254" y="16200"/>
                  </a:lnTo>
                  <a:lnTo>
                    <a:pt x="15279" y="16200"/>
                  </a:lnTo>
                  <a:arcTo wR="7763" hR="21600" stAng="-2141759" swAng="-2925436"/>
                  <a:lnTo>
                    <a:pt x="9788" y="748"/>
                  </a:lnTo>
                  <a:arcTo wR="7763" hR="21600" stAng="-5732805" swAng="-5067195"/>
                  <a:close/>
                </a:path>
                <a:path fill="darkenLess" w="21600" h="21600">
                  <a:moveTo>
                    <a:pt x="0" y="21600"/>
                  </a:moveTo>
                  <a:arcTo wR="7763" hR="21600" stAng="10800000" swAng="5400000"/>
                  <a:lnTo>
                    <a:pt x="7763" y="0"/>
                  </a:lnTo>
                  <a:arcTo wR="7763" hR="21600" stAng="-5400000" swAng="332805"/>
                  <a:lnTo>
                    <a:pt x="9788" y="748"/>
                  </a:lnTo>
                  <a:arcTo wR="7763" hR="21600" stAng="-5732805" swAng="-5067195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Curved Down Arrow 12"/>
            <p:cNvSpPr/>
            <p:nvPr/>
          </p:nvSpPr>
          <p:spPr>
            <a:xfrm>
              <a:off x="4267080" y="3657600"/>
              <a:ext cx="609480" cy="457200"/>
            </a:xfrm>
            <a:custGeom>
              <a:avLst/>
              <a:gdLst>
                <a:gd name="textAreaLeft" fmla="*/ 109440 w 609480"/>
                <a:gd name="textAreaRight" fmla="*/ 442800 w 609480"/>
                <a:gd name="textAreaTop" fmla="*/ 61200 h 457200"/>
                <a:gd name="textAreaBottom" fmla="*/ 39600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763" hR="21600" stAng="10800000" swAng="5400000"/>
                  <a:lnTo>
                    <a:pt x="11813" y="0"/>
                  </a:lnTo>
                  <a:arcTo wR="7763" hR="21600" stAng="-5400000" swAng="3258241"/>
                  <a:lnTo>
                    <a:pt x="21354" y="16200"/>
                  </a:lnTo>
                  <a:lnTo>
                    <a:pt x="17550" y="21600"/>
                  </a:lnTo>
                  <a:lnTo>
                    <a:pt x="13254" y="16200"/>
                  </a:lnTo>
                  <a:lnTo>
                    <a:pt x="15279" y="16200"/>
                  </a:lnTo>
                  <a:arcTo wR="7763" hR="21600" stAng="-2141759" swAng="-2925436"/>
                  <a:lnTo>
                    <a:pt x="9788" y="748"/>
                  </a:lnTo>
                  <a:arcTo wR="7763" hR="21600" stAng="-5732805" swAng="-5067195"/>
                  <a:close/>
                </a:path>
                <a:path fill="darkenLess" w="21600" h="21600">
                  <a:moveTo>
                    <a:pt x="0" y="21600"/>
                  </a:moveTo>
                  <a:arcTo wR="7763" hR="21600" stAng="10800000" swAng="5400000"/>
                  <a:lnTo>
                    <a:pt x="7763" y="0"/>
                  </a:lnTo>
                  <a:arcTo wR="7763" hR="21600" stAng="-5400000" swAng="332805"/>
                  <a:lnTo>
                    <a:pt x="9788" y="748"/>
                  </a:lnTo>
                  <a:arcTo wR="7763" hR="21600" stAng="-5732805" swAng="-5067195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Curved Down Arrow 13"/>
            <p:cNvSpPr/>
            <p:nvPr/>
          </p:nvSpPr>
          <p:spPr>
            <a:xfrm>
              <a:off x="4724280" y="3657600"/>
              <a:ext cx="609480" cy="457200"/>
            </a:xfrm>
            <a:custGeom>
              <a:avLst/>
              <a:gdLst>
                <a:gd name="textAreaLeft" fmla="*/ 109440 w 609480"/>
                <a:gd name="textAreaRight" fmla="*/ 442800 w 609480"/>
                <a:gd name="textAreaTop" fmla="*/ 61200 h 457200"/>
                <a:gd name="textAreaBottom" fmla="*/ 39600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763" hR="21600" stAng="10800000" swAng="5400000"/>
                  <a:lnTo>
                    <a:pt x="11813" y="0"/>
                  </a:lnTo>
                  <a:arcTo wR="7763" hR="21600" stAng="-5400000" swAng="3258241"/>
                  <a:lnTo>
                    <a:pt x="21354" y="16200"/>
                  </a:lnTo>
                  <a:lnTo>
                    <a:pt x="17550" y="21600"/>
                  </a:lnTo>
                  <a:lnTo>
                    <a:pt x="13254" y="16200"/>
                  </a:lnTo>
                  <a:lnTo>
                    <a:pt x="15279" y="16200"/>
                  </a:lnTo>
                  <a:arcTo wR="7763" hR="21600" stAng="-2141759" swAng="-2925436"/>
                  <a:lnTo>
                    <a:pt x="9788" y="748"/>
                  </a:lnTo>
                  <a:arcTo wR="7763" hR="21600" stAng="-5732805" swAng="-5067195"/>
                  <a:close/>
                </a:path>
                <a:path fill="darkenLess" w="21600" h="21600">
                  <a:moveTo>
                    <a:pt x="0" y="21600"/>
                  </a:moveTo>
                  <a:arcTo wR="7763" hR="21600" stAng="10800000" swAng="5400000"/>
                  <a:lnTo>
                    <a:pt x="7763" y="0"/>
                  </a:lnTo>
                  <a:arcTo wR="7763" hR="21600" stAng="-5400000" swAng="332805"/>
                  <a:lnTo>
                    <a:pt x="9788" y="748"/>
                  </a:lnTo>
                  <a:arcTo wR="7763" hR="21600" stAng="-5732805" swAng="-5067195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TextBox 14"/>
          <p:cNvSpPr/>
          <p:nvPr/>
        </p:nvSpPr>
        <p:spPr>
          <a:xfrm>
            <a:off x="1981080" y="3276720"/>
            <a:ext cx="83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/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Possibilitie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id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t is simple to write 8 as an improper fraction but more challenging to understand it when it is in that fo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0131F-25E8-44FD-9D63-9CAE379798E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At a higher level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could be asked to solve for x so that 7/x &gt; 2 and determine even more answ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C3909-21DB-4942-B797-82AA89D06E0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Grade 8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457200" y="1295280"/>
          <a:ext cx="8229600" cy="40291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661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n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661a6"/>
                    </a:solidFill>
                  </a:tcPr>
                </a:tc>
              </a:tr>
              <a:tr h="365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resent, compare and order rational numbe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late between equivalent forms of a numb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 estimation with solving operations with frac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re is always more than one strategy for comparing fractions, but…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non-unit fraction can be interpreted as a quotient. Knowing this might help determine the decimal form of that fraction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ach operation with fractions holds the same meaning as it did before; knowing this can inform estimating and calculating with fraction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20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108DD-7AE8-4521-9AA3-61C315CB1A8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Grade 8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457200" y="1295280"/>
          <a:ext cx="8229600" cy="37544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661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n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661a6"/>
                    </a:solidFill>
                  </a:tcPr>
                </a:tc>
              </a:tr>
              <a:tr h="33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resent the multiplication and division of fractions, using a variety of tool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ve problems involving +, -, x and ÷ with simple frac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ltiplying a fraction by a fraction involves temporarily changing the whol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viding by a fraction involves finding how many of that fraction makes the other number or involves determining a “unit rate”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re are always many strategies for calculating with fraction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20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DE738-2143-4875-886E-739E17D19AB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Grade 8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457200" y="1295280"/>
          <a:ext cx="8229600" cy="23828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661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n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661a6"/>
                    </a:solidFill>
                  </a:tcPr>
                </a:tc>
              </a:tr>
              <a:tr h="201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ve problems involving proportions using concretes, pictorials and variab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proportion is a statement that two fractions are equivalent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ery proportion can be solved using multiplication or division or some combination thereof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20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B8D54-FE09-4523-B6E9-DEA7384EF1C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Fraction as a quotien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picture would you draw to show that 12/5 = 12 ÷ 5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picture would you draw to show that 5/12 = 5 ÷ 12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4DBE6-E3A0-46BE-AE78-D7317547ECD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Possible picture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2 ÷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7A737-7A74-43A2-88EF-B2653EE21F6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23"/>
          <p:cNvGrpSpPr/>
          <p:nvPr/>
        </p:nvGrpSpPr>
        <p:grpSpPr>
          <a:xfrm>
            <a:off x="838080" y="2286000"/>
            <a:ext cx="6782400" cy="1374480"/>
            <a:chOff x="838080" y="2286000"/>
            <a:chExt cx="6782400" cy="1374480"/>
          </a:xfrm>
        </p:grpSpPr>
        <p:grpSp>
          <p:nvGrpSpPr>
            <p:cNvPr id="216" name="Group 18"/>
            <p:cNvGrpSpPr/>
            <p:nvPr/>
          </p:nvGrpSpPr>
          <p:grpSpPr>
            <a:xfrm>
              <a:off x="914040" y="2666880"/>
              <a:ext cx="6706440" cy="383040"/>
              <a:chOff x="914040" y="2666880"/>
              <a:chExt cx="6706440" cy="383040"/>
            </a:xfrm>
          </p:grpSpPr>
          <p:cxnSp>
            <p:nvCxnSpPr>
              <p:cNvPr id="217" name="Straight Arrow Connector 5"/>
              <p:cNvCxnSpPr/>
              <p:nvPr/>
            </p:nvCxnSpPr>
            <p:spPr>
              <a:xfrm>
                <a:off x="914040" y="3048120"/>
                <a:ext cx="670680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sp>
            <p:nvSpPr>
              <p:cNvPr id="218" name="Curved Down Arrow 6"/>
              <p:cNvSpPr/>
              <p:nvPr/>
            </p:nvSpPr>
            <p:spPr>
              <a:xfrm>
                <a:off x="990000" y="2666880"/>
                <a:ext cx="457200" cy="381240"/>
              </a:xfrm>
              <a:custGeom>
                <a:avLst/>
                <a:gdLst>
                  <a:gd name="textAreaLeft" fmla="*/ 78480 w 457200"/>
                  <a:gd name="textAreaRight" fmla="*/ 331200 w 457200"/>
                  <a:gd name="textAreaTop" fmla="*/ 51120 h 381240"/>
                  <a:gd name="textAreaBottom" fmla="*/ 330120 h 381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425" hR="21600" stAng="10800000" swAng="5400000"/>
                    <a:lnTo>
                      <a:pt x="11925" y="0"/>
                    </a:lnTo>
                    <a:arcTo wR="7425" hR="21600" stAng="-5400000" swAng="3185334"/>
                    <a:lnTo>
                      <a:pt x="21364" y="16200"/>
                    </a:lnTo>
                    <a:lnTo>
                      <a:pt x="17100" y="21600"/>
                    </a:lnTo>
                    <a:lnTo>
                      <a:pt x="12364" y="16200"/>
                    </a:lnTo>
                    <a:lnTo>
                      <a:pt x="14614" y="16200"/>
                    </a:lnTo>
                    <a:arcTo wR="7425" hR="21600" stAng="-2214666" swAng="-2811053"/>
                    <a:lnTo>
                      <a:pt x="9675" y="1016"/>
                    </a:lnTo>
                    <a:arcTo wR="7425" hR="21600" stAng="-5774281" swAng="-5025719"/>
                    <a:close/>
                  </a:path>
                  <a:path fill="darkenLess" w="21600" h="21600">
                    <a:moveTo>
                      <a:pt x="0" y="21600"/>
                    </a:moveTo>
                    <a:arcTo wR="7425" hR="21600" stAng="10800000" swAng="5400000"/>
                    <a:lnTo>
                      <a:pt x="7425" y="0"/>
                    </a:lnTo>
                    <a:arcTo wR="7425" hR="21600" stAng="-5400000" swAng="374281"/>
                    <a:lnTo>
                      <a:pt x="9675" y="1016"/>
                    </a:lnTo>
                    <a:arcTo wR="7425" hR="21600" stAng="-5774281" swAng="-5025719"/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Curved Down Arrow 7"/>
              <p:cNvSpPr/>
              <p:nvPr/>
            </p:nvSpPr>
            <p:spPr>
              <a:xfrm>
                <a:off x="1294920" y="2666880"/>
                <a:ext cx="457200" cy="381240"/>
              </a:xfrm>
              <a:custGeom>
                <a:avLst/>
                <a:gdLst>
                  <a:gd name="textAreaLeft" fmla="*/ 78480 w 457200"/>
                  <a:gd name="textAreaRight" fmla="*/ 331200 w 457200"/>
                  <a:gd name="textAreaTop" fmla="*/ 51120 h 381240"/>
                  <a:gd name="textAreaBottom" fmla="*/ 330120 h 381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425" hR="21600" stAng="10800000" swAng="5400000"/>
                    <a:lnTo>
                      <a:pt x="11925" y="0"/>
                    </a:lnTo>
                    <a:arcTo wR="7425" hR="21600" stAng="-5400000" swAng="3185334"/>
                    <a:lnTo>
                      <a:pt x="21364" y="16200"/>
                    </a:lnTo>
                    <a:lnTo>
                      <a:pt x="17100" y="21600"/>
                    </a:lnTo>
                    <a:lnTo>
                      <a:pt x="12364" y="16200"/>
                    </a:lnTo>
                    <a:lnTo>
                      <a:pt x="14614" y="16200"/>
                    </a:lnTo>
                    <a:arcTo wR="7425" hR="21600" stAng="-2214666" swAng="-2811053"/>
                    <a:lnTo>
                      <a:pt x="9675" y="1016"/>
                    </a:lnTo>
                    <a:arcTo wR="7425" hR="21600" stAng="-5774281" swAng="-5025719"/>
                    <a:close/>
                  </a:path>
                  <a:path fill="darkenLess" w="21600" h="21600">
                    <a:moveTo>
                      <a:pt x="0" y="21600"/>
                    </a:moveTo>
                    <a:arcTo wR="7425" hR="21600" stAng="10800000" swAng="5400000"/>
                    <a:lnTo>
                      <a:pt x="7425" y="0"/>
                    </a:lnTo>
                    <a:arcTo wR="7425" hR="21600" stAng="-5400000" swAng="374281"/>
                    <a:lnTo>
                      <a:pt x="9675" y="1016"/>
                    </a:lnTo>
                    <a:arcTo wR="7425" hR="21600" stAng="-5774281" swAng="-5025719"/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Curved Down Arrow 8"/>
              <p:cNvSpPr/>
              <p:nvPr/>
            </p:nvSpPr>
            <p:spPr>
              <a:xfrm>
                <a:off x="1599840" y="2666880"/>
                <a:ext cx="457200" cy="381240"/>
              </a:xfrm>
              <a:custGeom>
                <a:avLst/>
                <a:gdLst>
                  <a:gd name="textAreaLeft" fmla="*/ 78480 w 457200"/>
                  <a:gd name="textAreaRight" fmla="*/ 331200 w 457200"/>
                  <a:gd name="textAreaTop" fmla="*/ 51120 h 381240"/>
                  <a:gd name="textAreaBottom" fmla="*/ 330120 h 381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425" hR="21600" stAng="10800000" swAng="5400000"/>
                    <a:lnTo>
                      <a:pt x="11925" y="0"/>
                    </a:lnTo>
                    <a:arcTo wR="7425" hR="21600" stAng="-5400000" swAng="3185334"/>
                    <a:lnTo>
                      <a:pt x="21364" y="16200"/>
                    </a:lnTo>
                    <a:lnTo>
                      <a:pt x="17100" y="21600"/>
                    </a:lnTo>
                    <a:lnTo>
                      <a:pt x="12364" y="16200"/>
                    </a:lnTo>
                    <a:lnTo>
                      <a:pt x="14614" y="16200"/>
                    </a:lnTo>
                    <a:arcTo wR="7425" hR="21600" stAng="-2214666" swAng="-2811053"/>
                    <a:lnTo>
                      <a:pt x="9675" y="1016"/>
                    </a:lnTo>
                    <a:arcTo wR="7425" hR="21600" stAng="-5774281" swAng="-5025719"/>
                    <a:close/>
                  </a:path>
                  <a:path fill="darkenLess" w="21600" h="21600">
                    <a:moveTo>
                      <a:pt x="0" y="21600"/>
                    </a:moveTo>
                    <a:arcTo wR="7425" hR="21600" stAng="10800000" swAng="5400000"/>
                    <a:lnTo>
                      <a:pt x="7425" y="0"/>
                    </a:lnTo>
                    <a:arcTo wR="7425" hR="21600" stAng="-5400000" swAng="374281"/>
                    <a:lnTo>
                      <a:pt x="9675" y="1016"/>
                    </a:lnTo>
                    <a:arcTo wR="7425" hR="21600" stAng="-5774281" swAng="-5025719"/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Curved Down Arrow 9"/>
              <p:cNvSpPr/>
              <p:nvPr/>
            </p:nvSpPr>
            <p:spPr>
              <a:xfrm>
                <a:off x="1904760" y="2666880"/>
                <a:ext cx="457200" cy="381240"/>
              </a:xfrm>
              <a:custGeom>
                <a:avLst/>
                <a:gdLst>
                  <a:gd name="textAreaLeft" fmla="*/ 78480 w 457200"/>
                  <a:gd name="textAreaRight" fmla="*/ 331200 w 457200"/>
                  <a:gd name="textAreaTop" fmla="*/ 51120 h 381240"/>
                  <a:gd name="textAreaBottom" fmla="*/ 330120 h 381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425" hR="21600" stAng="10800000" swAng="5400000"/>
                    <a:lnTo>
                      <a:pt x="11925" y="0"/>
                    </a:lnTo>
                    <a:arcTo wR="7425" hR="21600" stAng="-5400000" swAng="3185334"/>
                    <a:lnTo>
                      <a:pt x="21364" y="16200"/>
                    </a:lnTo>
                    <a:lnTo>
                      <a:pt x="17100" y="21600"/>
                    </a:lnTo>
                    <a:lnTo>
                      <a:pt x="12364" y="16200"/>
                    </a:lnTo>
                    <a:lnTo>
                      <a:pt x="14614" y="16200"/>
                    </a:lnTo>
                    <a:arcTo wR="7425" hR="21600" stAng="-2214666" swAng="-2811053"/>
                    <a:lnTo>
                      <a:pt x="9675" y="1016"/>
                    </a:lnTo>
                    <a:arcTo wR="7425" hR="21600" stAng="-5774281" swAng="-5025719"/>
                    <a:close/>
                  </a:path>
                  <a:path fill="darkenLess" w="21600" h="21600">
                    <a:moveTo>
                      <a:pt x="0" y="21600"/>
                    </a:moveTo>
                    <a:arcTo wR="7425" hR="21600" stAng="10800000" swAng="5400000"/>
                    <a:lnTo>
                      <a:pt x="7425" y="0"/>
                    </a:lnTo>
                    <a:arcTo wR="7425" hR="21600" stAng="-5400000" swAng="374281"/>
                    <a:lnTo>
                      <a:pt x="9675" y="1016"/>
                    </a:lnTo>
                    <a:arcTo wR="7425" hR="21600" stAng="-5774281" swAng="-5025719"/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Curved Down Arrow 10"/>
              <p:cNvSpPr/>
              <p:nvPr/>
            </p:nvSpPr>
            <p:spPr>
              <a:xfrm>
                <a:off x="2209320" y="2666880"/>
                <a:ext cx="457200" cy="381240"/>
              </a:xfrm>
              <a:custGeom>
                <a:avLst/>
                <a:gdLst>
                  <a:gd name="textAreaLeft" fmla="*/ 78480 w 457200"/>
                  <a:gd name="textAreaRight" fmla="*/ 331200 w 457200"/>
                  <a:gd name="textAreaTop" fmla="*/ 51120 h 381240"/>
                  <a:gd name="textAreaBottom" fmla="*/ 330120 h 381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425" hR="21600" stAng="10800000" swAng="5400000"/>
                    <a:lnTo>
                      <a:pt x="11925" y="0"/>
                    </a:lnTo>
                    <a:arcTo wR="7425" hR="21600" stAng="-5400000" swAng="3185334"/>
                    <a:lnTo>
                      <a:pt x="21364" y="16200"/>
                    </a:lnTo>
                    <a:lnTo>
                      <a:pt x="17100" y="21600"/>
                    </a:lnTo>
                    <a:lnTo>
                      <a:pt x="12364" y="16200"/>
                    </a:lnTo>
                    <a:lnTo>
                      <a:pt x="14614" y="16200"/>
                    </a:lnTo>
                    <a:arcTo wR="7425" hR="21600" stAng="-2214666" swAng="-2811053"/>
                    <a:lnTo>
                      <a:pt x="9675" y="1016"/>
                    </a:lnTo>
                    <a:arcTo wR="7425" hR="21600" stAng="-5774281" swAng="-5025719"/>
                    <a:close/>
                  </a:path>
                  <a:path fill="darkenLess" w="21600" h="21600">
                    <a:moveTo>
                      <a:pt x="0" y="21600"/>
                    </a:moveTo>
                    <a:arcTo wR="7425" hR="21600" stAng="10800000" swAng="5400000"/>
                    <a:lnTo>
                      <a:pt x="7425" y="0"/>
                    </a:lnTo>
                    <a:arcTo wR="7425" hR="21600" stAng="-5400000" swAng="374281"/>
                    <a:lnTo>
                      <a:pt x="9675" y="1016"/>
                    </a:lnTo>
                    <a:arcTo wR="7425" hR="21600" stAng="-5774281" swAng="-5025719"/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Curved Down Arrow 11"/>
              <p:cNvSpPr/>
              <p:nvPr/>
            </p:nvSpPr>
            <p:spPr>
              <a:xfrm>
                <a:off x="2514240" y="2666880"/>
                <a:ext cx="457200" cy="381240"/>
              </a:xfrm>
              <a:custGeom>
                <a:avLst/>
                <a:gdLst>
                  <a:gd name="textAreaLeft" fmla="*/ 78480 w 457200"/>
                  <a:gd name="textAreaRight" fmla="*/ 331200 w 457200"/>
                  <a:gd name="textAreaTop" fmla="*/ 51120 h 381240"/>
                  <a:gd name="textAreaBottom" fmla="*/ 330120 h 381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425" hR="21600" stAng="10800000" swAng="5400000"/>
                    <a:lnTo>
                      <a:pt x="11925" y="0"/>
                    </a:lnTo>
                    <a:arcTo wR="7425" hR="21600" stAng="-5400000" swAng="3185334"/>
                    <a:lnTo>
                      <a:pt x="21364" y="16200"/>
                    </a:lnTo>
                    <a:lnTo>
                      <a:pt x="17100" y="21600"/>
                    </a:lnTo>
                    <a:lnTo>
                      <a:pt x="12364" y="16200"/>
                    </a:lnTo>
                    <a:lnTo>
                      <a:pt x="14614" y="16200"/>
                    </a:lnTo>
                    <a:arcTo wR="7425" hR="21600" stAng="-2214666" swAng="-2811053"/>
                    <a:lnTo>
                      <a:pt x="9675" y="1016"/>
                    </a:lnTo>
                    <a:arcTo wR="7425" hR="21600" stAng="-5774281" swAng="-5025719"/>
                    <a:close/>
                  </a:path>
                  <a:path fill="darkenLess" w="21600" h="21600">
                    <a:moveTo>
                      <a:pt x="0" y="21600"/>
                    </a:moveTo>
                    <a:arcTo wR="7425" hR="21600" stAng="10800000" swAng="5400000"/>
                    <a:lnTo>
                      <a:pt x="7425" y="0"/>
                    </a:lnTo>
                    <a:arcTo wR="7425" hR="21600" stAng="-5400000" swAng="374281"/>
                    <a:lnTo>
                      <a:pt x="9675" y="1016"/>
                    </a:lnTo>
                    <a:arcTo wR="7425" hR="21600" stAng="-5774281" swAng="-5025719"/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Curved Down Arrow 12"/>
              <p:cNvSpPr/>
              <p:nvPr/>
            </p:nvSpPr>
            <p:spPr>
              <a:xfrm>
                <a:off x="2819160" y="2666880"/>
                <a:ext cx="457200" cy="381240"/>
              </a:xfrm>
              <a:custGeom>
                <a:avLst/>
                <a:gdLst>
                  <a:gd name="textAreaLeft" fmla="*/ 78480 w 457200"/>
                  <a:gd name="textAreaRight" fmla="*/ 331200 w 457200"/>
                  <a:gd name="textAreaTop" fmla="*/ 51120 h 381240"/>
                  <a:gd name="textAreaBottom" fmla="*/ 330120 h 381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425" hR="21600" stAng="10800000" swAng="5400000"/>
                    <a:lnTo>
                      <a:pt x="11925" y="0"/>
                    </a:lnTo>
                    <a:arcTo wR="7425" hR="21600" stAng="-5400000" swAng="3185334"/>
                    <a:lnTo>
                      <a:pt x="21364" y="16200"/>
                    </a:lnTo>
                    <a:lnTo>
                      <a:pt x="17100" y="21600"/>
                    </a:lnTo>
                    <a:lnTo>
                      <a:pt x="12364" y="16200"/>
                    </a:lnTo>
                    <a:lnTo>
                      <a:pt x="14614" y="16200"/>
                    </a:lnTo>
                    <a:arcTo wR="7425" hR="21600" stAng="-2214666" swAng="-2811053"/>
                    <a:lnTo>
                      <a:pt x="9675" y="1016"/>
                    </a:lnTo>
                    <a:arcTo wR="7425" hR="21600" stAng="-5774281" swAng="-5025719"/>
                    <a:close/>
                  </a:path>
                  <a:path fill="darkenLess" w="21600" h="21600">
                    <a:moveTo>
                      <a:pt x="0" y="21600"/>
                    </a:moveTo>
                    <a:arcTo wR="7425" hR="21600" stAng="10800000" swAng="5400000"/>
                    <a:lnTo>
                      <a:pt x="7425" y="0"/>
                    </a:lnTo>
                    <a:arcTo wR="7425" hR="21600" stAng="-5400000" swAng="374281"/>
                    <a:lnTo>
                      <a:pt x="9675" y="1016"/>
                    </a:lnTo>
                    <a:arcTo wR="7425" hR="21600" stAng="-5774281" swAng="-5025719"/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Curved Down Arrow 13"/>
              <p:cNvSpPr/>
              <p:nvPr/>
            </p:nvSpPr>
            <p:spPr>
              <a:xfrm>
                <a:off x="3124080" y="2666880"/>
                <a:ext cx="457200" cy="381240"/>
              </a:xfrm>
              <a:custGeom>
                <a:avLst/>
                <a:gdLst>
                  <a:gd name="textAreaLeft" fmla="*/ 78480 w 457200"/>
                  <a:gd name="textAreaRight" fmla="*/ 331200 w 457200"/>
                  <a:gd name="textAreaTop" fmla="*/ 51120 h 381240"/>
                  <a:gd name="textAreaBottom" fmla="*/ 330120 h 381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425" hR="21600" stAng="10800000" swAng="5400000"/>
                    <a:lnTo>
                      <a:pt x="11925" y="0"/>
                    </a:lnTo>
                    <a:arcTo wR="7425" hR="21600" stAng="-5400000" swAng="3185334"/>
                    <a:lnTo>
                      <a:pt x="21364" y="16200"/>
                    </a:lnTo>
                    <a:lnTo>
                      <a:pt x="17100" y="21600"/>
                    </a:lnTo>
                    <a:lnTo>
                      <a:pt x="12364" y="16200"/>
                    </a:lnTo>
                    <a:lnTo>
                      <a:pt x="14614" y="16200"/>
                    </a:lnTo>
                    <a:arcTo wR="7425" hR="21600" stAng="-2214666" swAng="-2811053"/>
                    <a:lnTo>
                      <a:pt x="9675" y="1016"/>
                    </a:lnTo>
                    <a:arcTo wR="7425" hR="21600" stAng="-5774281" swAng="-5025719"/>
                    <a:close/>
                  </a:path>
                  <a:path fill="darkenLess" w="21600" h="21600">
                    <a:moveTo>
                      <a:pt x="0" y="21600"/>
                    </a:moveTo>
                    <a:arcTo wR="7425" hR="21600" stAng="10800000" swAng="5400000"/>
                    <a:lnTo>
                      <a:pt x="7425" y="0"/>
                    </a:lnTo>
                    <a:arcTo wR="7425" hR="21600" stAng="-5400000" swAng="374281"/>
                    <a:lnTo>
                      <a:pt x="9675" y="1016"/>
                    </a:lnTo>
                    <a:arcTo wR="7425" hR="21600" stAng="-5774281" swAng="-5025719"/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Curved Down Arrow 14"/>
              <p:cNvSpPr/>
              <p:nvPr/>
            </p:nvSpPr>
            <p:spPr>
              <a:xfrm>
                <a:off x="3428640" y="2666880"/>
                <a:ext cx="457200" cy="381240"/>
              </a:xfrm>
              <a:custGeom>
                <a:avLst/>
                <a:gdLst>
                  <a:gd name="textAreaLeft" fmla="*/ 78480 w 457200"/>
                  <a:gd name="textAreaRight" fmla="*/ 331200 w 457200"/>
                  <a:gd name="textAreaTop" fmla="*/ 51120 h 381240"/>
                  <a:gd name="textAreaBottom" fmla="*/ 330120 h 381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425" hR="21600" stAng="10800000" swAng="5400000"/>
                    <a:lnTo>
                      <a:pt x="11925" y="0"/>
                    </a:lnTo>
                    <a:arcTo wR="7425" hR="21600" stAng="-5400000" swAng="3185334"/>
                    <a:lnTo>
                      <a:pt x="21364" y="16200"/>
                    </a:lnTo>
                    <a:lnTo>
                      <a:pt x="17100" y="21600"/>
                    </a:lnTo>
                    <a:lnTo>
                      <a:pt x="12364" y="16200"/>
                    </a:lnTo>
                    <a:lnTo>
                      <a:pt x="14614" y="16200"/>
                    </a:lnTo>
                    <a:arcTo wR="7425" hR="21600" stAng="-2214666" swAng="-2811053"/>
                    <a:lnTo>
                      <a:pt x="9675" y="1016"/>
                    </a:lnTo>
                    <a:arcTo wR="7425" hR="21600" stAng="-5774281" swAng="-5025719"/>
                    <a:close/>
                  </a:path>
                  <a:path fill="darkenLess" w="21600" h="21600">
                    <a:moveTo>
                      <a:pt x="0" y="21600"/>
                    </a:moveTo>
                    <a:arcTo wR="7425" hR="21600" stAng="10800000" swAng="5400000"/>
                    <a:lnTo>
                      <a:pt x="7425" y="0"/>
                    </a:lnTo>
                    <a:arcTo wR="7425" hR="21600" stAng="-5400000" swAng="374281"/>
                    <a:lnTo>
                      <a:pt x="9675" y="1016"/>
                    </a:lnTo>
                    <a:arcTo wR="7425" hR="21600" stAng="-5774281" swAng="-5025719"/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Curved Down Arrow 15"/>
              <p:cNvSpPr/>
              <p:nvPr/>
            </p:nvSpPr>
            <p:spPr>
              <a:xfrm>
                <a:off x="3733560" y="2666880"/>
                <a:ext cx="457200" cy="381240"/>
              </a:xfrm>
              <a:custGeom>
                <a:avLst/>
                <a:gdLst>
                  <a:gd name="textAreaLeft" fmla="*/ 78480 w 457200"/>
                  <a:gd name="textAreaRight" fmla="*/ 331200 w 457200"/>
                  <a:gd name="textAreaTop" fmla="*/ 51120 h 381240"/>
                  <a:gd name="textAreaBottom" fmla="*/ 330120 h 381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425" hR="21600" stAng="10800000" swAng="5400000"/>
                    <a:lnTo>
                      <a:pt x="11925" y="0"/>
                    </a:lnTo>
                    <a:arcTo wR="7425" hR="21600" stAng="-5400000" swAng="3185334"/>
                    <a:lnTo>
                      <a:pt x="21364" y="16200"/>
                    </a:lnTo>
                    <a:lnTo>
                      <a:pt x="17100" y="21600"/>
                    </a:lnTo>
                    <a:lnTo>
                      <a:pt x="12364" y="16200"/>
                    </a:lnTo>
                    <a:lnTo>
                      <a:pt x="14614" y="16200"/>
                    </a:lnTo>
                    <a:arcTo wR="7425" hR="21600" stAng="-2214666" swAng="-2811053"/>
                    <a:lnTo>
                      <a:pt x="9675" y="1016"/>
                    </a:lnTo>
                    <a:arcTo wR="7425" hR="21600" stAng="-5774281" swAng="-5025719"/>
                    <a:close/>
                  </a:path>
                  <a:path fill="darkenLess" w="21600" h="21600">
                    <a:moveTo>
                      <a:pt x="0" y="21600"/>
                    </a:moveTo>
                    <a:arcTo wR="7425" hR="21600" stAng="10800000" swAng="5400000"/>
                    <a:lnTo>
                      <a:pt x="7425" y="0"/>
                    </a:lnTo>
                    <a:arcTo wR="7425" hR="21600" stAng="-5400000" swAng="374281"/>
                    <a:lnTo>
                      <a:pt x="9675" y="1016"/>
                    </a:lnTo>
                    <a:arcTo wR="7425" hR="21600" stAng="-5774281" swAng="-5025719"/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Curved Down Arrow 16"/>
              <p:cNvSpPr/>
              <p:nvPr/>
            </p:nvSpPr>
            <p:spPr>
              <a:xfrm>
                <a:off x="4038480" y="2666880"/>
                <a:ext cx="457200" cy="381240"/>
              </a:xfrm>
              <a:custGeom>
                <a:avLst/>
                <a:gdLst>
                  <a:gd name="textAreaLeft" fmla="*/ 78480 w 457200"/>
                  <a:gd name="textAreaRight" fmla="*/ 331200 w 457200"/>
                  <a:gd name="textAreaTop" fmla="*/ 51120 h 381240"/>
                  <a:gd name="textAreaBottom" fmla="*/ 330120 h 381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425" hR="21600" stAng="10800000" swAng="5400000"/>
                    <a:lnTo>
                      <a:pt x="11925" y="0"/>
                    </a:lnTo>
                    <a:arcTo wR="7425" hR="21600" stAng="-5400000" swAng="3185334"/>
                    <a:lnTo>
                      <a:pt x="21364" y="16200"/>
                    </a:lnTo>
                    <a:lnTo>
                      <a:pt x="17100" y="21600"/>
                    </a:lnTo>
                    <a:lnTo>
                      <a:pt x="12364" y="16200"/>
                    </a:lnTo>
                    <a:lnTo>
                      <a:pt x="14614" y="16200"/>
                    </a:lnTo>
                    <a:arcTo wR="7425" hR="21600" stAng="-2214666" swAng="-2811053"/>
                    <a:lnTo>
                      <a:pt x="9675" y="1016"/>
                    </a:lnTo>
                    <a:arcTo wR="7425" hR="21600" stAng="-5774281" swAng="-5025719"/>
                    <a:close/>
                  </a:path>
                  <a:path fill="darkenLess" w="21600" h="21600">
                    <a:moveTo>
                      <a:pt x="0" y="21600"/>
                    </a:moveTo>
                    <a:arcTo wR="7425" hR="21600" stAng="10800000" swAng="5400000"/>
                    <a:lnTo>
                      <a:pt x="7425" y="0"/>
                    </a:lnTo>
                    <a:arcTo wR="7425" hR="21600" stAng="-5400000" swAng="374281"/>
                    <a:lnTo>
                      <a:pt x="9675" y="1016"/>
                    </a:lnTo>
                    <a:arcTo wR="7425" hR="21600" stAng="-5774281" swAng="-5025719"/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Curved Down Arrow 17"/>
              <p:cNvSpPr/>
              <p:nvPr/>
            </p:nvSpPr>
            <p:spPr>
              <a:xfrm>
                <a:off x="4343400" y="2666880"/>
                <a:ext cx="457200" cy="381240"/>
              </a:xfrm>
              <a:custGeom>
                <a:avLst/>
                <a:gdLst>
                  <a:gd name="textAreaLeft" fmla="*/ 78480 w 457200"/>
                  <a:gd name="textAreaRight" fmla="*/ 331200 w 457200"/>
                  <a:gd name="textAreaTop" fmla="*/ 51120 h 381240"/>
                  <a:gd name="textAreaBottom" fmla="*/ 330120 h 381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425" hR="21600" stAng="10800000" swAng="5400000"/>
                    <a:lnTo>
                      <a:pt x="11925" y="0"/>
                    </a:lnTo>
                    <a:arcTo wR="7425" hR="21600" stAng="-5400000" swAng="3185334"/>
                    <a:lnTo>
                      <a:pt x="21364" y="16200"/>
                    </a:lnTo>
                    <a:lnTo>
                      <a:pt x="17100" y="21600"/>
                    </a:lnTo>
                    <a:lnTo>
                      <a:pt x="12364" y="16200"/>
                    </a:lnTo>
                    <a:lnTo>
                      <a:pt x="14614" y="16200"/>
                    </a:lnTo>
                    <a:arcTo wR="7425" hR="21600" stAng="-2214666" swAng="-2811053"/>
                    <a:lnTo>
                      <a:pt x="9675" y="1016"/>
                    </a:lnTo>
                    <a:arcTo wR="7425" hR="21600" stAng="-5774281" swAng="-5025719"/>
                    <a:close/>
                  </a:path>
                  <a:path fill="darkenLess" w="21600" h="21600">
                    <a:moveTo>
                      <a:pt x="0" y="21600"/>
                    </a:moveTo>
                    <a:arcTo wR="7425" hR="21600" stAng="10800000" swAng="5400000"/>
                    <a:lnTo>
                      <a:pt x="7425" y="0"/>
                    </a:lnTo>
                    <a:arcTo wR="7425" hR="21600" stAng="-5400000" swAng="374281"/>
                    <a:lnTo>
                      <a:pt x="9675" y="1016"/>
                    </a:lnTo>
                    <a:arcTo wR="7425" hR="21600" stAng="-5774281" swAng="-5025719"/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0" name="TextBox 19"/>
            <p:cNvSpPr/>
            <p:nvPr/>
          </p:nvSpPr>
          <p:spPr>
            <a:xfrm>
              <a:off x="838080" y="3200760"/>
              <a:ext cx="6782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                1                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Box 20"/>
            <p:cNvSpPr/>
            <p:nvPr/>
          </p:nvSpPr>
          <p:spPr>
            <a:xfrm>
              <a:off x="4343400" y="2286000"/>
              <a:ext cx="838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/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21"/>
            <p:cNvSpPr/>
            <p:nvPr/>
          </p:nvSpPr>
          <p:spPr>
            <a:xfrm>
              <a:off x="2514600" y="2438280"/>
              <a:ext cx="1600200" cy="80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22"/>
            <p:cNvSpPr/>
            <p:nvPr/>
          </p:nvSpPr>
          <p:spPr>
            <a:xfrm>
              <a:off x="872640" y="2571840"/>
              <a:ext cx="1837800" cy="80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Possible picture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 ÷ 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9DE8F-2C52-4B03-B2A2-71A2F036ABB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2514600" y="2743200"/>
          <a:ext cx="6095880" cy="1854360"/>
        </p:xfrm>
        <a:graphic>
          <a:graphicData uri="http://schemas.openxmlformats.org/drawingml/2006/table">
            <a:tbl>
              <a:tblPr/>
              <a:tblGrid>
                <a:gridCol w="507960"/>
                <a:gridCol w="507960"/>
                <a:gridCol w="507960"/>
                <a:gridCol w="507960"/>
                <a:gridCol w="508320"/>
                <a:gridCol w="507960"/>
                <a:gridCol w="507960"/>
                <a:gridCol w="507960"/>
                <a:gridCol w="507960"/>
                <a:gridCol w="507960"/>
                <a:gridCol w="507960"/>
                <a:gridCol w="50796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ac6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ac6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ac6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ac6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ac6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</a:tr>
            </a:tbl>
          </a:graphicData>
        </a:graphic>
      </p:graphicFrame>
      <p:grpSp>
        <p:nvGrpSpPr>
          <p:cNvPr id="238" name="Group 10"/>
          <p:cNvGrpSpPr/>
          <p:nvPr/>
        </p:nvGrpSpPr>
        <p:grpSpPr>
          <a:xfrm>
            <a:off x="1295280" y="2743200"/>
            <a:ext cx="1219320" cy="1892880"/>
            <a:chOff x="1295280" y="2743200"/>
            <a:chExt cx="1219320" cy="1892880"/>
          </a:xfrm>
        </p:grpSpPr>
        <p:sp>
          <p:nvSpPr>
            <p:cNvPr id="239" name="TextBox 5"/>
            <p:cNvSpPr/>
            <p:nvPr/>
          </p:nvSpPr>
          <p:spPr>
            <a:xfrm>
              <a:off x="1295280" y="27432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bject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Box 6"/>
            <p:cNvSpPr/>
            <p:nvPr/>
          </p:nvSpPr>
          <p:spPr>
            <a:xfrm>
              <a:off x="1295280" y="304812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bject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Box 7"/>
            <p:cNvSpPr/>
            <p:nvPr/>
          </p:nvSpPr>
          <p:spPr>
            <a:xfrm>
              <a:off x="1295280" y="34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bject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Box 8"/>
            <p:cNvSpPr/>
            <p:nvPr/>
          </p:nvSpPr>
          <p:spPr>
            <a:xfrm>
              <a:off x="1295280" y="388656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bject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Box 9"/>
            <p:cNvSpPr/>
            <p:nvPr/>
          </p:nvSpPr>
          <p:spPr>
            <a:xfrm>
              <a:off x="1295280" y="42678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bject 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Possible picture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 ÷ 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3FBB5-5A30-438C-80DA-989B0B77A6D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1523880" y="2743200"/>
          <a:ext cx="6096240" cy="1854360"/>
        </p:xfrm>
        <a:graphic>
          <a:graphicData uri="http://schemas.openxmlformats.org/drawingml/2006/table">
            <a:tbl>
              <a:tblPr/>
              <a:tblGrid>
                <a:gridCol w="507960"/>
                <a:gridCol w="508320"/>
                <a:gridCol w="507960"/>
                <a:gridCol w="507960"/>
                <a:gridCol w="507960"/>
                <a:gridCol w="507960"/>
                <a:gridCol w="507960"/>
                <a:gridCol w="507960"/>
                <a:gridCol w="507960"/>
                <a:gridCol w="507960"/>
                <a:gridCol w="508320"/>
                <a:gridCol w="50796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00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48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2e4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00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48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2e4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00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48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2e4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00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48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2e4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00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48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2e4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Multiplying- changing the whol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es 1/3 x 2/5 me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2/5 temporarily becomes the whole of which we take 1/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 we go back to the original whole to represent the result. &lt;see picture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DACAB-EE5A-41BF-9FD5-3CDBD79EE84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Pictur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/3 x 2/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3B7F6-EEA7-448D-A865-F3A117A01C7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1295280" y="2971800"/>
          <a:ext cx="6096240" cy="1112760"/>
        </p:xfrm>
        <a:graphic>
          <a:graphicData uri="http://schemas.openxmlformats.org/drawingml/2006/table">
            <a:tbl>
              <a:tblPr/>
              <a:tblGrid>
                <a:gridCol w="1219320"/>
                <a:gridCol w="1219320"/>
                <a:gridCol w="1218960"/>
                <a:gridCol w="1219320"/>
                <a:gridCol w="12193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ac6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ac6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ac6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ac6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ac6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ac6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5" name="Freeform 5"/>
          <p:cNvSpPr/>
          <p:nvPr/>
        </p:nvSpPr>
        <p:spPr>
          <a:xfrm>
            <a:off x="1112760" y="2911320"/>
            <a:ext cx="2687760" cy="4906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Possibilitie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ther ide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he improper fraction 8/4 is simple to write as a whole number, but it is hard to write 88/5 as a mixed numb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EE2D3-D933-4E0D-8359-18026F57D68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Proportion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solve this proble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f you drive 75 km/h, how long does it take to go 35 k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might set up a proportion 75/60 = 35/x or the proportion 75/1 = 35/x which means you want an equivalent fraction for either 75/60 or 75/1  with a numerator of 3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A70E9-7C5D-42FC-85BB-9E0A43F57FB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Notic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ould actually solve the problem using operations, e.g. 35 ÷ 75 or 35 ÷ 75 x 60 but that is a different iss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C9C6A-6513-4B72-9C92-621DC517002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So let’s go back to specifics about struggling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have a task for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a model or draw a picture that shows both 1/6 and 5/6 at the same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202FD-CBCB-4098-A5A8-FB0C62A48FF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4" descr="Screen shot 2012-07-17 at 2.52.06 PM.png"/>
          <p:cNvPicPr/>
          <p:nvPr/>
        </p:nvPicPr>
        <p:blipFill>
          <a:blip r:embed="rId1"/>
          <a:stretch/>
        </p:blipFill>
        <p:spPr>
          <a:xfrm>
            <a:off x="6095880" y="4419720"/>
            <a:ext cx="1955880" cy="97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Misconception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students ONLY see 1/6 bel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uld it help to use two colours instead of only o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661B0-6BA0-4923-885A-D4CC87B70E7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1295280" y="2666880"/>
          <a:ext cx="6096240" cy="371520"/>
        </p:xfrm>
        <a:graphic>
          <a:graphicData uri="http://schemas.openxmlformats.org/drawingml/2006/table">
            <a:tbl>
              <a:tblPr/>
              <a:tblGrid>
                <a:gridCol w="1016280"/>
                <a:gridCol w="1015920"/>
                <a:gridCol w="1015920"/>
                <a:gridCol w="1015920"/>
                <a:gridCol w="1015920"/>
                <a:gridCol w="10162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Use your pattern block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380880" y="14475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use RED, YELLOW, GREEN, BLUE bloc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your blocks to show each of these fractions (one at a time is fine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/2, 1/3, 1/6, 1/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FB340-5012-4E01-91AA-AE246B93387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5" descr="Screen shot 2012-07-17 at 2.52.06 PM.png"/>
          <p:cNvPicPr/>
          <p:nvPr/>
        </p:nvPicPr>
        <p:blipFill>
          <a:blip r:embed="rId1"/>
          <a:stretch/>
        </p:blipFill>
        <p:spPr>
          <a:xfrm>
            <a:off x="6095880" y="4419720"/>
            <a:ext cx="1955880" cy="97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The struggl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are focused on fractions as parts of wholes and do not accept that you can use 1/3 to describe th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D3FE9-76E6-43BB-8449-8C465B6A6FE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4" descr="Screen shot 2012-07-17 at 2.44.56 PM.png"/>
          <p:cNvPicPr/>
          <p:nvPr/>
        </p:nvPicPr>
        <p:blipFill>
          <a:blip r:embed="rId1"/>
          <a:stretch/>
        </p:blipFill>
        <p:spPr>
          <a:xfrm>
            <a:off x="1219320" y="3200400"/>
            <a:ext cx="2552760" cy="2463840"/>
          </a:xfrm>
          <a:prstGeom prst="rect">
            <a:avLst/>
          </a:prstGeom>
          <a:ln w="0">
            <a:noFill/>
          </a:ln>
        </p:spPr>
      </p:pic>
      <p:sp>
        <p:nvSpPr>
          <p:cNvPr id="278" name="TextBox 5"/>
          <p:cNvSpPr/>
          <p:nvPr/>
        </p:nvSpPr>
        <p:spPr>
          <a:xfrm>
            <a:off x="4876920" y="327672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/3 OF THE BLOCK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Another exampl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C95C8-A311-4694-89F7-18E654CE7DC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4" descr="Devon Class Student Response 6 Split.jpg"/>
          <p:cNvPicPr/>
          <p:nvPr/>
        </p:nvPicPr>
        <p:blipFill>
          <a:blip r:embed="rId1"/>
          <a:stretch/>
        </p:blipFill>
        <p:spPr>
          <a:xfrm>
            <a:off x="4648320" y="1447920"/>
            <a:ext cx="4368600" cy="327636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5" descr="Devon Class Student Response 6.jpg"/>
          <p:cNvPicPr/>
          <p:nvPr/>
        </p:nvPicPr>
        <p:blipFill>
          <a:blip r:embed="rId2"/>
          <a:stretch/>
        </p:blipFill>
        <p:spPr>
          <a:xfrm>
            <a:off x="304920" y="1523880"/>
            <a:ext cx="4240080" cy="2438640"/>
          </a:xfrm>
          <a:prstGeom prst="rect">
            <a:avLst/>
          </a:prstGeom>
          <a:ln w="0">
            <a:noFill/>
          </a:ln>
        </p:spPr>
      </p:pic>
      <p:sp>
        <p:nvSpPr>
          <p:cNvPr id="283" name="TextBox 6"/>
          <p:cNvSpPr/>
          <p:nvPr/>
        </p:nvSpPr>
        <p:spPr>
          <a:xfrm>
            <a:off x="304920" y="4648320"/>
            <a:ext cx="883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han half of the area is red but more than ½ of the blocks are 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Using whole number reasoning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students reasonably assume that 1/3 &gt; 1/2 since they see 3 and 2 and 3 &gt; 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based on using whole number reasoning when it does not a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reason to avoid standard notation too ear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93A07-90C6-4CB4-94FD-F1C4CD1CBEB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An example of mixing up whole number and fraction reasoning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43457-E160-4C34-BCEF-09B20E23903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4" descr="Screen shot 2012-07-17 at 4.24.30 PM.png"/>
          <p:cNvPicPr/>
          <p:nvPr/>
        </p:nvPicPr>
        <p:blipFill>
          <a:blip r:embed="rId1"/>
          <a:stretch/>
        </p:blipFill>
        <p:spPr>
          <a:xfrm>
            <a:off x="1981080" y="1981080"/>
            <a:ext cx="5232600" cy="355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marian:Users:mariansmall:Desktop:DO NOW:future speaking commitments:camppp 2012 :July:KNAER_Steve McLean PS_S02_Grade 6_Lesson Action_28March12.mov" descr="/Users/mariansmall/Desktop/DO NOW/future speaking commitments/camppp 2012 /July/KNAER_Steve McLean PS_S02_Grade 6_Lesson Action_28March12.mov"/>
          <p:cNvPicPr/>
          <p:nvPr/>
        </p:nvPicPr>
        <p:blipFill>
          <a:blip r:embed="rId1"/>
          <a:stretch/>
        </p:blipFill>
        <p:spPr>
          <a:xfrm>
            <a:off x="609480" y="380880"/>
            <a:ext cx="7886880" cy="5257800"/>
          </a:xfrm>
          <a:prstGeom prst="rect">
            <a:avLst/>
          </a:prstGeom>
          <a:ln w="0">
            <a:noFill/>
          </a:ln>
        </p:spPr>
      </p:pic>
      <p:sp>
        <p:nvSpPr>
          <p:cNvPr id="29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19510-D25C-4F15-BD62-72FFAA06526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restart="whenNotActive" nodeType="interactiveSeq" fill="hold">
                <p:stCondLst>
                  <p:cond evt="onClick">
                    <p:tgtEl>
                      <p:spTgt spid="290"/>
                    </p:tgtEl>
                  </p:cond>
                </p:stCondLst>
                <p:childTnLst>
                  <p:par>
                    <p:cTn id="125" fill="hold">
                      <p:stCondLst>
                        <p:cond evt="onClick">
                          <p:tgtEl>
                            <p:spTgt spid="290"/>
                          </p:tgtEl>
                        </p:cond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8" dur="1" fill="hold"/>
                                        <p:tgtEl>
                                          <p:spTgt spid="2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Some student sample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e are a variety of student samp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here is a simple improper fraction with a denominator of 8 and the challenging part is figuring out what the numerator could b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42083-BFFA-45BC-BBF7-E5931A4E2D3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omparing fraction strategie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two of these four fractions would you find easiest to compare? 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5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5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4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9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2            4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0041B-544B-4B33-A971-D769B618972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4" descr="Screen shot 2012-07-17 at 2.52.06 PM.png"/>
          <p:cNvPicPr/>
          <p:nvPr/>
        </p:nvPicPr>
        <p:blipFill>
          <a:blip r:embed="rId1"/>
          <a:stretch/>
        </p:blipFill>
        <p:spPr>
          <a:xfrm>
            <a:off x="6095880" y="4419720"/>
            <a:ext cx="1955880" cy="97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omparison strategy struggle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students think a picture is more reliable than reasoning to compare two frac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o compare 2/5 and 3/8 (which are close), most children-drawn pictures are mislea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5DC2A-A190-4FD2-8DE4-4103321409F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2/5 and 3/8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04B74-0B43-4C0B-B97E-D829DCCA575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4"/>
          <p:cNvSpPr/>
          <p:nvPr/>
        </p:nvSpPr>
        <p:spPr>
          <a:xfrm>
            <a:off x="2209680" y="1600200"/>
            <a:ext cx="449604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5"/>
          <p:cNvSpPr/>
          <p:nvPr/>
        </p:nvSpPr>
        <p:spPr>
          <a:xfrm>
            <a:off x="2286000" y="2819520"/>
            <a:ext cx="4495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Straight Connector 7"/>
          <p:cNvSpPr/>
          <p:nvPr/>
        </p:nvSpPr>
        <p:spPr>
          <a:xfrm flipV="1">
            <a:off x="2970360" y="1525680"/>
            <a:ext cx="28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traight Connector 8"/>
          <p:cNvSpPr/>
          <p:nvPr/>
        </p:nvSpPr>
        <p:spPr>
          <a:xfrm flipV="1">
            <a:off x="3809160" y="1523520"/>
            <a:ext cx="180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traight Connector 9"/>
          <p:cNvSpPr/>
          <p:nvPr/>
        </p:nvSpPr>
        <p:spPr>
          <a:xfrm flipV="1">
            <a:off x="4723560" y="1599840"/>
            <a:ext cx="180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traight Connector 10"/>
          <p:cNvSpPr/>
          <p:nvPr/>
        </p:nvSpPr>
        <p:spPr>
          <a:xfrm flipV="1">
            <a:off x="5791320" y="159984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traight Connector 11"/>
          <p:cNvSpPr/>
          <p:nvPr/>
        </p:nvSpPr>
        <p:spPr>
          <a:xfrm flipV="1">
            <a:off x="3886200" y="274284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12"/>
          <p:cNvSpPr/>
          <p:nvPr/>
        </p:nvSpPr>
        <p:spPr>
          <a:xfrm flipV="1">
            <a:off x="5637960" y="2742840"/>
            <a:ext cx="180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13"/>
          <p:cNvSpPr/>
          <p:nvPr/>
        </p:nvSpPr>
        <p:spPr>
          <a:xfrm flipV="1">
            <a:off x="4494960" y="2742840"/>
            <a:ext cx="180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Straight Connector 14"/>
          <p:cNvSpPr/>
          <p:nvPr/>
        </p:nvSpPr>
        <p:spPr>
          <a:xfrm flipV="1">
            <a:off x="3276720" y="2819520"/>
            <a:ext cx="144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traight Connector 15"/>
          <p:cNvSpPr/>
          <p:nvPr/>
        </p:nvSpPr>
        <p:spPr>
          <a:xfrm flipV="1">
            <a:off x="2743200" y="274284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Straight Connector 16"/>
          <p:cNvSpPr/>
          <p:nvPr/>
        </p:nvSpPr>
        <p:spPr>
          <a:xfrm flipV="1">
            <a:off x="5105520" y="274284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Straight Connector 17"/>
          <p:cNvSpPr/>
          <p:nvPr/>
        </p:nvSpPr>
        <p:spPr>
          <a:xfrm flipV="1">
            <a:off x="6172200" y="274284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Box 18"/>
          <p:cNvSpPr/>
          <p:nvPr/>
        </p:nvSpPr>
        <p:spPr>
          <a:xfrm>
            <a:off x="2362320" y="17524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19"/>
          <p:cNvSpPr/>
          <p:nvPr/>
        </p:nvSpPr>
        <p:spPr>
          <a:xfrm>
            <a:off x="3124080" y="17524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Box 20"/>
          <p:cNvSpPr/>
          <p:nvPr/>
        </p:nvSpPr>
        <p:spPr>
          <a:xfrm>
            <a:off x="2286000" y="28954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Box 21"/>
          <p:cNvSpPr/>
          <p:nvPr/>
        </p:nvSpPr>
        <p:spPr>
          <a:xfrm>
            <a:off x="2743200" y="28954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Box 22"/>
          <p:cNvSpPr/>
          <p:nvPr/>
        </p:nvSpPr>
        <p:spPr>
          <a:xfrm>
            <a:off x="3352680" y="28954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2/5 and 3/8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ing fractions with the same denominator (16 anythings is more than 15 of those things) is more reliable. (16/40 vs 15/4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9D2C6-729D-4A32-B374-2ABFBF24B50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2/5 and 3/8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 comparing fractions with the same numerator (6 big pieces is more than 6 small pieces) is more reliable. (6/15 is more than 6/1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FAC73-CE2A-4B86-9EFA-F094E37D2C7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A possible discussion question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becca says that 1/3 is less than 1/2 since 3 is more than 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aron says that 1/3 is more than 1/2 since 3 is more than 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ra says that 1/3 could be more or could be less than 1/2. It depe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whom do you agree? 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5A794-5D28-44F1-92C0-107EBF35706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omparing fraction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raction is REALLY CLOSE to 1/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might it b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18D21-0B7A-487B-AD2B-DAFA82BE9E0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4" descr="Screen shot 2012-07-17 at 2.52.06 PM.png"/>
          <p:cNvPicPr/>
          <p:nvPr/>
        </p:nvPicPr>
        <p:blipFill>
          <a:blip r:embed="rId1"/>
          <a:stretch/>
        </p:blipFill>
        <p:spPr>
          <a:xfrm>
            <a:off x="6095880" y="4419720"/>
            <a:ext cx="1955880" cy="97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The struggle for some…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students may have difficulty comparing fractions with big numerators and denominators because of lack of experi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443A1-3A30-4FB2-B317-742EFED6436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For example…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ould ask which of 342/1000 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1/ 10 000  is greater, without using calculato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ADC6D-8CC9-4A4A-B9A7-F6ADBD799AC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For example…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know that 342/1000 is less than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1/ 10 000  by thinking that the first denominator is about 3 times the first numerator and the second is about 5 times its numerato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’m comparing about 1/3 to about 1/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D154E-1083-438A-AAB0-324A0366A43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Some student sample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he improper fraction 8/2 can prove to be simple or challenging to a grade 5 stud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F9A87-79C2-48EC-8845-87457DD4273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Bigger??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fraction has both a greater numerator and a greater denominator than another, but it’s still small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could the two fractions b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92700-4419-426A-A29B-643860CD027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Picture 4" descr="Screen shot 2012-07-17 at 2.52.06 PM.png"/>
          <p:cNvPicPr/>
          <p:nvPr/>
        </p:nvPicPr>
        <p:blipFill>
          <a:blip r:embed="rId1"/>
          <a:stretch/>
        </p:blipFill>
        <p:spPr>
          <a:xfrm>
            <a:off x="6095880" y="4419720"/>
            <a:ext cx="1955880" cy="97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What might students think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students assume that 6/10 &gt; 3/4 since 6 is more than 3 and 10 is more than 4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be the difficulty is that we use such a limited set of numerators and denominators and/or we don’t confront the issue direct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6E160-6078-486E-9DE6-A61DDFBAFB6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At higher grade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earch has shown that many older students think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1EF10-82C0-433C-A5C0-CAC10646CBB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1" name=""/>
          <p:cNvGraphicFramePr/>
          <p:nvPr/>
        </p:nvGraphicFramePr>
        <p:xfrm>
          <a:off x="2590920" y="2971800"/>
          <a:ext cx="1028520" cy="101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2971800"/>
                    <a:ext cx="1028520" cy="101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3" name=""/>
          <p:cNvGraphicFramePr/>
          <p:nvPr/>
        </p:nvGraphicFramePr>
        <p:xfrm>
          <a:off x="4724280" y="3048120"/>
          <a:ext cx="1270080" cy="1015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3048120"/>
                    <a:ext cx="1270080" cy="101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Let’s look at a new issu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5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55F73-AFC5-468D-89BB-7B04387B477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marian:Users:mariansmall:Desktop:DO NOW:future speaking commitments:camppp 2012 :July:KNAER_Holly Meadows PS_S02_Student Misconceptions_29March12.mov" descr="/Users/mariansmall/Desktop/DO NOW/future speaking commitments/camppp 2012 /July/KNAER_Holly Meadows PS_S02_Student Misconceptions_29March12.mov"/>
          <p:cNvPicPr/>
          <p:nvPr/>
        </p:nvPicPr>
        <p:blipFill>
          <a:blip r:embed="rId1"/>
          <a:stretch/>
        </p:blipFill>
        <p:spPr>
          <a:xfrm>
            <a:off x="609480" y="304920"/>
            <a:ext cx="7886880" cy="5257800"/>
          </a:xfrm>
          <a:prstGeom prst="rect">
            <a:avLst/>
          </a:prstGeom>
          <a:ln w="0">
            <a:noFill/>
          </a:ln>
        </p:spPr>
      </p:pic>
      <p:sp>
        <p:nvSpPr>
          <p:cNvPr id="35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9E2A2-6628-4E29-86C2-FC43EF317C3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1" dur="indefinite" restart="never" nodeType="tmRoot">
          <p:childTnLst>
            <p:seq>
              <p:cTn id="172" restart="whenNotActive" nodeType="interactiveSeq" fill="hold">
                <p:stCondLst>
                  <p:cond evt="onClick">
                    <p:tgtEl>
                      <p:spTgt spid="357"/>
                    </p:tgtEl>
                  </p:cond>
                </p:stCondLst>
                <p:childTnLst>
                  <p:par>
                    <p:cTn id="173" fill="hold">
                      <p:stCondLst>
                        <p:cond evt="onClick">
                          <p:tgtEl>
                            <p:spTgt spid="357"/>
                          </p:tgtEl>
                        </p:cond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76" dur="1" fill="hold"/>
                                        <p:tgtEl>
                                          <p:spTgt spid="3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marian:Users:mariansmall:Desktop:DO NOW:future speaking commitments:camppp 2012 :July:KNAER_Emma King PS_S02_Action_03April12.mov" descr="/Users/mariansmall/Desktop/DO NOW/future speaking commitments/camppp 2012 /July/KNAER_Emma King PS_S02_Action_03April12.mov"/>
          <p:cNvPicPr/>
          <p:nvPr/>
        </p:nvPicPr>
        <p:blipFill>
          <a:blip r:embed="rId1"/>
          <a:stretch/>
        </p:blipFill>
        <p:spPr>
          <a:xfrm>
            <a:off x="685800" y="304920"/>
            <a:ext cx="7886880" cy="5257800"/>
          </a:xfrm>
          <a:prstGeom prst="rect">
            <a:avLst/>
          </a:prstGeom>
          <a:ln w="0">
            <a:noFill/>
          </a:ln>
        </p:spPr>
      </p:pic>
      <p:sp>
        <p:nvSpPr>
          <p:cNvPr id="36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23BAC-6F9F-48BB-A669-24AB2E6C21C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7" dur="indefinite" restart="never" nodeType="tmRoot">
          <p:childTnLst>
            <p:seq>
              <p:cTn id="178" restart="whenNotActive" nodeType="interactiveSeq" fill="hold">
                <p:stCondLst>
                  <p:cond evt="onClick">
                    <p:tgtEl>
                      <p:spTgt spid="359"/>
                    </p:tgtEl>
                  </p:cond>
                </p:stCondLst>
                <p:childTnLst>
                  <p:par>
                    <p:cTn id="179" fill="hold">
                      <p:stCondLst>
                        <p:cond evt="onClick">
                          <p:tgtEl>
                            <p:spTgt spid="359"/>
                          </p:tgtEl>
                        </p:cond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2" dur="1" fill="hold"/>
                                        <p:tgtEl>
                                          <p:spTgt spid="3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What fraction do you see?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graphicFrame>
        <p:nvGraphicFramePr>
          <p:cNvPr id="362" name=""/>
          <p:cNvGraphicFramePr/>
          <p:nvPr/>
        </p:nvGraphicFramePr>
        <p:xfrm>
          <a:off x="1219320" y="1676520"/>
          <a:ext cx="2590560" cy="1285920"/>
        </p:xfrm>
        <a:graphic>
          <a:graphicData uri="http://schemas.openxmlformats.org/drawingml/2006/table">
            <a:tbl>
              <a:tblPr/>
              <a:tblGrid>
                <a:gridCol w="1295280"/>
                <a:gridCol w="1295280"/>
              </a:tblGrid>
              <a:tr h="128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36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05C54-4D0F-47D1-A7DE-66390CB2111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4" name=""/>
          <p:cNvGraphicFramePr/>
          <p:nvPr/>
        </p:nvGraphicFramePr>
        <p:xfrm>
          <a:off x="4343400" y="1676520"/>
          <a:ext cx="2590920" cy="128592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</a:tblGrid>
              <a:tr h="128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Using improper fraction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whole is not identified, it is not reasonable for students to know what it 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need to identify and/or have students identify the who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7E977-D4B4-4603-A4E2-C21A5DC1213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Struggles with equating fractions with division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addressed this earlier, but many students accept, but don’t understand, why you divide the numerator by denominator to name a fraction as a decim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will write 2/3 as 1.5 since they divide 3 by 2. They figure that makes more sense than dividing 2 by 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6F98F-048E-435F-897F-C4DFB350837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At  a higher gra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k what  5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2 mea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might mean 5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hared into 2 parts (division) or 5/2 multiplied by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i.e drawing 2 ½ copies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56582-F102-47ED-966A-E00F2E1A705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Some student sample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4/8 is an improper fraction it is challenging but somewhat simpl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2390F-47DE-4709-84A7-EF16037866E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Look at the fraction tower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divide two fractions and the answer is just a little more than 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could the fractions have be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67E74-F102-4AD1-A985-679F7900436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50FA6-C15E-4204-9C94-DEA34843C38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4" descr="Screen shot 2012-07-17 at 4.43.42 PM.png"/>
          <p:cNvPicPr/>
          <p:nvPr/>
        </p:nvPicPr>
        <p:blipFill>
          <a:blip r:embed="rId1"/>
          <a:stretch/>
        </p:blipFill>
        <p:spPr>
          <a:xfrm>
            <a:off x="2743200" y="0"/>
            <a:ext cx="5299200" cy="6858000"/>
          </a:xfrm>
          <a:prstGeom prst="rect">
            <a:avLst/>
          </a:prstGeom>
          <a:ln w="0">
            <a:noFill/>
          </a:ln>
        </p:spPr>
      </p:pic>
      <p:sp>
        <p:nvSpPr>
          <p:cNvPr id="379" name="TextBox 5"/>
          <p:cNvSpPr/>
          <p:nvPr/>
        </p:nvSpPr>
        <p:spPr>
          <a:xfrm>
            <a:off x="380880" y="1371600"/>
            <a:ext cx="1905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 is a little more than 2 when you divide two frac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With the tower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are looking for any fraction that is just a bit less than half of another on the tow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ould be, e.g. 1/5 and 1/2  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12 and 2/3 or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81CF8-D40A-4670-9256-FAF3BD96ABE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D1A01-A9A8-4E24-9130-45A4709593D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4" descr="Screen shot 2012-07-17 at 4.43.42 PM.png"/>
          <p:cNvPicPr/>
          <p:nvPr/>
        </p:nvPicPr>
        <p:blipFill>
          <a:blip r:embed="rId1"/>
          <a:stretch/>
        </p:blipFill>
        <p:spPr>
          <a:xfrm>
            <a:off x="2743200" y="0"/>
            <a:ext cx="5299200" cy="6858000"/>
          </a:xfrm>
          <a:prstGeom prst="rect">
            <a:avLst/>
          </a:prstGeom>
          <a:ln w="0">
            <a:noFill/>
          </a:ln>
        </p:spPr>
      </p:pic>
      <p:sp>
        <p:nvSpPr>
          <p:cNvPr id="385" name="TextBox 5"/>
          <p:cNvSpPr/>
          <p:nvPr/>
        </p:nvSpPr>
        <p:spPr>
          <a:xfrm>
            <a:off x="380880" y="1371600"/>
            <a:ext cx="1905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 is a little more than 2 when you divide ½ by 1/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6"/>
          <p:cNvSpPr/>
          <p:nvPr/>
        </p:nvSpPr>
        <p:spPr>
          <a:xfrm>
            <a:off x="2895480" y="2133720"/>
            <a:ext cx="9907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7"/>
          <p:cNvSpPr/>
          <p:nvPr/>
        </p:nvSpPr>
        <p:spPr>
          <a:xfrm>
            <a:off x="2895480" y="609480"/>
            <a:ext cx="251460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Straight Connector 9"/>
          <p:cNvSpPr/>
          <p:nvPr/>
        </p:nvSpPr>
        <p:spPr>
          <a:xfrm flipH="1">
            <a:off x="4876920" y="228600"/>
            <a:ext cx="1440" cy="3429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74DE4-0056-4D42-9C1B-C4BDA9AE648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Picture 4" descr="Screen shot 2012-07-17 at 4.43.42 PM.png"/>
          <p:cNvPicPr/>
          <p:nvPr/>
        </p:nvPicPr>
        <p:blipFill>
          <a:blip r:embed="rId1"/>
          <a:stretch/>
        </p:blipFill>
        <p:spPr>
          <a:xfrm>
            <a:off x="2743200" y="0"/>
            <a:ext cx="5299200" cy="6858000"/>
          </a:xfrm>
          <a:prstGeom prst="rect">
            <a:avLst/>
          </a:prstGeom>
          <a:ln w="0">
            <a:noFill/>
          </a:ln>
        </p:spPr>
      </p:pic>
      <p:sp>
        <p:nvSpPr>
          <p:cNvPr id="391" name="TextBox 5"/>
          <p:cNvSpPr/>
          <p:nvPr/>
        </p:nvSpPr>
        <p:spPr>
          <a:xfrm>
            <a:off x="380880" y="1371600"/>
            <a:ext cx="19051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 is a little more than 2 when you divide tw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/12 by 1/8 or 5/18 by 1/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6"/>
          <p:cNvSpPr/>
          <p:nvPr/>
        </p:nvSpPr>
        <p:spPr>
          <a:xfrm>
            <a:off x="2895480" y="3200400"/>
            <a:ext cx="6098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7"/>
          <p:cNvSpPr/>
          <p:nvPr/>
        </p:nvSpPr>
        <p:spPr>
          <a:xfrm>
            <a:off x="2895480" y="4648320"/>
            <a:ext cx="1676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Straight Connector 9"/>
          <p:cNvSpPr/>
          <p:nvPr/>
        </p:nvSpPr>
        <p:spPr>
          <a:xfrm flipH="1">
            <a:off x="4266720" y="609480"/>
            <a:ext cx="1800" cy="57913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To avoid the problem..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be when students see 2 ÷ 1/3, we read it as How many 1/3s are in 2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y read 1/2 ÷ 1/5, they think: “How many 1/5s are in 1/2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EFB2A-23F0-44C8-A7F7-262DC39734A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Adding fraction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agine it rains 2 days in one week and 3 in ano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say it rained 5/14 of the days, essentially adding the numerators and denominato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2/7 + 3/7 = 5/7 and not 5/1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’s going 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A5D54-A68A-4C78-90B7-5F1FA5017C5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Struggl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elationship between fractions and ratios is a strugg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ratio situation, you are combining parts of different wholes and comparing to the combined who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fraction situation, you are combining parts of the same whole and comparing to that one who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DA6C4-7A14-45A8-B89E-4D87F16A59F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Using common denominator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students assume that since you use common denominators for addition and subtraction, you should for multiplication and divis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t is not wrong. It is inefficient for multiplication (although not really for division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88F08-40F2-4D94-8B97-F414B5D2A06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Using common denominator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n indication that kids are learning rules but not understanding why things 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DB8BF-F700-4B31-8346-B7A08CC41B7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Some student sample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n improper fraction can make fractions both simple and challenging. Let’s say you have 1 3/8 – 7/8, you can’t do it unless you change the 1 3/8 into a proper fraction. That is 1 3/8 = 11/8-7/8=4/8. The reason they can make it more challenging is you have 2 3/8 -17/8. It is still solvable but it can get confusing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4C75D-E4A7-40FC-B74C-A6844541F04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Why it’s not inefficient for division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I were calculating  2/3 ÷ 1/4 (which asks how many 1/4s are in 2/3), it is actually convenient to think of 8/12 ÷ 3/12 and realize the answer is 8 ÷ 3 (or 8/3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8603A-F875-4817-8AE2-33D836FC3E2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Which are correct and why?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x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x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      5     5               3     12   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x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x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       5    3               9       4    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00E47-5370-4789-874D-746ED3A34E9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Straight Connector 5"/>
          <p:cNvSpPr/>
          <p:nvPr/>
        </p:nvSpPr>
        <p:spPr>
          <a:xfrm flipV="1">
            <a:off x="990720" y="1752120"/>
            <a:ext cx="12952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Straight Connector 7"/>
          <p:cNvSpPr/>
          <p:nvPr/>
        </p:nvSpPr>
        <p:spPr>
          <a:xfrm>
            <a:off x="2209680" y="3352680"/>
            <a:ext cx="7632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Straight Connector 10"/>
          <p:cNvSpPr/>
          <p:nvPr/>
        </p:nvSpPr>
        <p:spPr>
          <a:xfrm>
            <a:off x="4800600" y="1905120"/>
            <a:ext cx="11430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Straight Connector 12"/>
          <p:cNvSpPr/>
          <p:nvPr/>
        </p:nvSpPr>
        <p:spPr>
          <a:xfrm>
            <a:off x="4800600" y="3581280"/>
            <a:ext cx="11430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Simplifying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ing students to cross-out without meaning is not good– they need to think about why it wor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op left one is easy to show: 2/3 of 3 of anything is 2 of that th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577DC-D7E5-412F-BF9E-6A5002EB77F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3" name=""/>
          <p:cNvGraphicFramePr/>
          <p:nvPr/>
        </p:nvGraphicFramePr>
        <p:xfrm>
          <a:off x="1447920" y="4572000"/>
          <a:ext cx="6095880" cy="365040"/>
        </p:xfrm>
        <a:graphic>
          <a:graphicData uri="http://schemas.openxmlformats.org/drawingml/2006/table">
            <a:tbl>
              <a:tblPr/>
              <a:tblGrid>
                <a:gridCol w="1218960"/>
                <a:gridCol w="1219320"/>
                <a:gridCol w="1219320"/>
                <a:gridCol w="1218960"/>
                <a:gridCol w="12193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4" name="Freeform 5"/>
          <p:cNvSpPr/>
          <p:nvPr/>
        </p:nvSpPr>
        <p:spPr>
          <a:xfrm>
            <a:off x="1260360" y="4327560"/>
            <a:ext cx="2700360" cy="8938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Picture 6" descr="Screen shot 2012-07-17 at 5.23.40 PM.png"/>
          <p:cNvPicPr/>
          <p:nvPr/>
        </p:nvPicPr>
        <p:blipFill>
          <a:blip r:embed="rId1"/>
          <a:stretch/>
        </p:blipFill>
        <p:spPr>
          <a:xfrm>
            <a:off x="5410080" y="5029200"/>
            <a:ext cx="1752840" cy="82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Simplifying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ottom right one is explained by thinking of 2/9 x 5/4 = 2/4 x 5/9 and then  renaming 2/4 as 1/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writing the 1 for 1/2  does cause difficulties for some stud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62340-1A8F-4389-93B2-883E07EA92F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4" descr="Screen shot 2012-07-17 at 5.23.45 PM.png"/>
          <p:cNvPicPr/>
          <p:nvPr/>
        </p:nvPicPr>
        <p:blipFill>
          <a:blip r:embed="rId1"/>
          <a:stretch/>
        </p:blipFill>
        <p:spPr>
          <a:xfrm>
            <a:off x="6248520" y="2819520"/>
            <a:ext cx="2000160" cy="123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This was just a start….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is a lot of literature and lots of information about fraction strugg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am sure you will meet many more of these issues this wee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though it can seem like a downer, knowledge is pow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4C0D6-16A5-41DF-B04D-74119CF8EC1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Some student sample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here are three kinds of fractions, the simple fractions and the challenging fractions and the improper fractio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858CF-4C0F-477A-AAF3-551E793750B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2T16:24:00Z</dcterms:created>
  <dc:creator>CSC</dc:creator>
  <dc:description/>
  <dc:language>en-US</dc:language>
  <cp:lastModifiedBy>Marian Small</cp:lastModifiedBy>
  <dcterms:modified xsi:type="dcterms:W3CDTF">2012-07-22T16:52:32Z</dcterms:modified>
  <cp:revision>120</cp:revision>
  <dc:subject/>
  <dc:title>&lt;Title&gt;</dc:title>
</cp:coreProperties>
</file>